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6619"/>
        <c:axId val="80287057"/>
      </c:barChart>
      <c:catAx>
        <c:axId val="5466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287057"/>
        <c:crosses val="autoZero"/>
        <c:auto val="1"/>
        <c:lblAlgn val="ctr"/>
        <c:lblOffset val="100"/>
        <c:noMultiLvlLbl val="0"/>
      </c:catAx>
      <c:valAx>
        <c:axId val="802870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66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4FE0-39B1-4E51-969B-526C9DF74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4AC3-16B6-4333-A42A-CAF1532F4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BDC1-3543-46D9-AC09-132D4EA4D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F38B-20A2-4C45-88FE-D5DAB8B83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845D-8DDD-4756-BD8D-42F0C27E7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E9DA-F415-4DDE-B48E-9C08228E7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8D88-6013-4794-8FE2-B2DCC6A83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7301-5613-4D74-80CC-B9FE2A466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EF8E-FEEE-4EA0-8362-D29C06DD0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0742-7E8F-4522-900F-0B771527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B378-4855-4A28-B6D8-8FD7F81E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C26A-F0C9-4C9F-BAD2-44B843B4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CCE7D7-45D5-4B81-8412-ABB4186A121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