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070B5D-1D49-4660-B2D2-49D1DFD636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0DC0F9-0DDA-44D1-80C4-C96C888710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D7CFBE-2905-4C81-A2AF-F715095F06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941B10-15C1-4804-9417-107B3A8BA6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3D0AD2F-113B-4692-AE9F-D4DCFE8EC59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C1CC5E-1BC9-470D-82F2-C98868A1D3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EDDC06-30A7-4F25-86F6-D1B164CAB8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329327-8DCB-4E5A-BE7E-1A8E3BEF86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A8475D-F247-4EAA-85F1-11460A19DC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2FC983-D888-40BE-80D1-132E0E788C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209A3A-9FED-4AA8-94CD-4431BD3DCF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38078E-657D-4BD9-80EF-099A3ED837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83E8F8-2160-4422-BFAF-6A8E2B8FD0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04305C-1234-4EB8-A0A5-0B7749D5B9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CFA97E-1DDB-40C8-B975-5329AE0E81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13AC1C2-4609-485B-B8EF-1B13D1499D8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7D6272D-5603-411B-AFF7-4BC2250C392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64184C-086E-4F09-9181-CCB940A3DC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81B29C-830E-485E-86D4-56C35D2282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97AC31-3639-4E1D-BAF3-6EDE9EA303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996576-A4BC-477E-9A50-45590AE338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38B1A6-3C6A-4D60-ABE0-64C4F6FDCC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D59E6D-25E1-46BC-A40A-19C40E7B55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431890-1ADE-4CAC-B253-30A70BB489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9C0987-7D94-4A83-B998-F8C66B95D3B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EDCB4E-0F32-4098-9C79-1F25EE46DE5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3CAB184-C227-465A-B7EB-A72ED6774D3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B96ECC6-02C6-4617-805A-642B33D46E8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B1B60C-0130-4EF4-9F2F-135DDC1D986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2088D0-BA9E-48BC-9051-BF3C2E19321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3AFF14-B7B9-4745-A8F5-30784587FB06}"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650AD4-1679-44E3-8D4F-DCA3BCD1B88D}"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1BD0BD-AC33-4E1E-A3C1-A14D2657ACB1}"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B7915F-8951-4940-A6BB-CCB96EA57157}"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AAB535-29D9-4A45-AC61-E89673D4240F}"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9F7CEE-8822-4C77-ADA9-256C1053C3BE}"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392160-C09E-4ED2-BF8E-D2B5946DC272}"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78ABF8-56CC-4FC0-BD13-D2B09D70E9CA}"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1ABF3B-AE1D-4214-93DE-C48051A51132}"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15C166-6533-4616-9A0C-E090E5ED7056}"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5F1AA5-4C1E-4A36-AB73-3B9D4636CAA5}"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C883EB-17C9-4A5E-93FB-B39343359B01}"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410CDD-B72B-41F2-A527-9039F5CF7DC0}"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61F196-9C23-4885-A81B-83D5A5FB4BC4}"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BAA16D-7637-447A-B11B-4F2587826568}"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929F94-FD18-49DA-A809-ABC6A6682D2F}"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26B523-9DA8-4FFF-BC57-6F0BAD896906}"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39279F-6F37-45A8-A23A-74822CF35043}"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C57200-4144-46B5-972F-873330AB4051}"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4BDFA2-26D6-4888-AF02-D1205E80CB9C}"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A36436-2D6D-478E-B8C9-27E8E239271E}"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0BDAC4-79E8-4445-B491-4B5ED58F884A}"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78B2F4-62AE-44A3-954C-C773C6A7F687}"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D4D0604-D9A8-456A-A032-1ADEA219FD98}"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5179CA-FFBB-400C-88E9-53471B9EECAC}"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1F34DA-8695-4AC9-B56E-0B076E6393A2}"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7B7E02-BAE9-43BF-9E5E-D2AC2DBED867}"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00DB1A-BF5C-4C66-B652-28812D6F6A42}"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3BBC48-886B-462A-911C-1478916D8841}"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185B00-B63A-4BC7-83EF-2F57FBB8E6E0}"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1A00ED-56D0-4B96-92D0-5197B7A25B70}"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78F60F-CA3B-436F-B223-EB69C16CCD0A}"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A29659-997D-475F-BC7A-858B79DBF581}"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80BD8F-146C-4B4F-925F-C8C81EC1C2EF}"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8EC6F4-EC60-45F5-8677-6AB07E9BA242}"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32B557-0A3A-4B79-B5B8-29AA2DC8F31C}"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492A9F-C224-408A-BB32-013DF5704545}"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C5B048-AB73-44FA-BA77-3A3B3FCCF515}"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711474-9DAB-46B2-B8C1-05D531F03B68}"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EC8D60-7FE6-471F-8E4C-60BB7B6573CB}"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894ED0-20F5-418E-8D31-F9E146B042FF}"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BCB2EF-3A0F-4293-B858-4305B4F8F35B}"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28382B-0BE3-461D-B036-607DE5ABFABB}"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F40B7C-4DA2-429E-B2E7-E2A15AA0E5C4}"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461F752-7C26-4547-BDD9-76809314ECC9}"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BF861F-921C-4478-BA94-67FC42A3F71E}"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4165EF-313F-4424-AD00-EA0EEF57A201}"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BDB0B25-95DD-451B-976A-079971443076}"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745692-0BB4-487C-A550-8EF7E795E7FD}"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BE1490-35E1-4D84-BCF1-C879116A6058}"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9AE307-4F54-4A5F-931B-612857C6EA8B}"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15ACFC-3553-46B5-8B0A-976AFBCEC473}"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DCD300-9AE0-4132-A68B-173D7E9F1EF8}"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A54156-77FC-4217-BAD4-1EA814EA9282}"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57147D-3564-4A50-914A-4ABA453D7E33}"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0339ABE-B4B8-4F3A-AC9C-F9FDBBA2457B}"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4AC289-13E8-43BE-A8DC-326DED81AE6A}"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C69FDE-BA6F-47B6-93E2-ECF3855129C1}"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348992-9B1C-4F8D-9F10-EC822D0E79CD}"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39B637-25ED-4848-B7E8-4547AB6955B3}"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CCA77B-1221-4280-97FD-6AA7D9E9183F}"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5C040AE-E54E-42D8-8002-4122F6D0BB0B}"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ED5348-C69E-43DA-85F6-4F8385F29797}"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937B53-C03D-4D5A-A375-3CBB748B5245}"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692475-43A1-4293-8463-E047FA9952AA}"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2D2380-272E-4D85-B070-7DAFAE350398}"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740603F-4EB3-4355-92D7-36250F102A2C}"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3B1A70-2996-4AE6-BF2B-DA5EB74C002E}"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CF15D2-162C-4A3F-9A9C-E67BACFFB883}"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01274D-F99D-4E27-A81C-1301DCA62FD3}"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689DFC-5E28-45F8-907A-551617D0CAC8}"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2DFC68-EF16-464B-874A-0FB5E19CDADE}"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B719E0-2518-4D20-A5CD-D4680B79D478}"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46F06EA-13B7-4E93-A456-0FE2CFABAFDD}"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8FD164-00BE-4BDA-8298-B0D338431CB8}"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CA2D31-47B7-4673-8E28-BA5EE17801A5}"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B30BA7-627C-454C-B04E-7FE29E2228DF}"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5DDE9AE-C17E-49EE-9C5F-1487A54FBCB6}"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2A4305-5E7A-446C-9C91-A3D148C7F09F}"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458E3A2-42BC-4E08-A5D4-84ED545D54AD}"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6AF358-491E-40F2-8AB7-681F1CF33B14}"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551D1A-07CF-4202-906E-6B6743D9EE73}"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BED45E-DF67-4AC6-8CAD-7F1A4BD4C531}"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BAB66D-C8B1-4234-ABBC-BAFBE3B536B2}"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BDBDF5-21B0-43CB-A5F8-D673BD9F9CD9}"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56A129-EF0C-4C2D-8AB4-E4455C81C258}"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92EB8A-1B3A-410F-A76D-1053A90D1068}"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EB12D1-8B2B-498A-B84F-A1926C804107}"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1B221A-92BE-491E-9EF4-7F82DD8AE56A}"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B1DF73-9F49-4075-908C-F40E8BACDD14}"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35509E-72BC-4C1D-8A9F-8DDD736A4DE5}"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7875FC-A83C-41E2-86AF-7972E5BA44DC}"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2B0486-F6EE-44A8-8805-168EFD29B104}"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EFD3C9-4413-4BAE-B959-194DB5F717F9}"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721E27-7AEB-4C96-99CE-8D7041C6639F}"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AE7A8D8-FF81-44B6-8064-F6FB51D37CE1}"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FC9572-B4FE-466C-99EB-91357FE3A302}"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145EBD-FEA1-40CC-926F-6C9CA5D972B3}"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2A5F9A-0D18-43ED-8180-EB998AC1AC27}"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C0F9CC-666A-40EF-8289-2EF3E5B84841}"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0AE1FD-75EA-4495-8F71-BB41448504E3}"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449EC4-9EC1-4F14-8837-A97BF074FBFF}"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3CE008-6AC5-4120-A530-846325D6BC29}"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7FC374-052F-4A3B-BF51-61A6D9B3C0A8}"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F63AA1-2715-40CD-9577-890119568669}"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C377E8-6D4A-4A73-8C41-AA5240F03DF4}"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F91A01-4E09-4041-BE31-9CA3B39DC076}"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FEFA2C-48BD-439D-939D-54460D193D6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697EAB-5DD3-486F-829B-B8EB2E005AAD}"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4F5E79-EB31-4158-AECC-61C99779A7B4}"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B66FC0-BFE2-4060-82CB-CA853B0F601B}"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707D05-EBBF-4E12-BFE4-F2099BD0935F}"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60F285-B25F-41D6-AD03-129B425104E1}"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8B1E38-2833-4CFB-B6A5-48B538FB2B36}"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F1916F-F114-4A97-A79E-E14AA6BAA922}"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3C724B-6D7D-44CE-A742-82905E42396A}"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3A5173-BDB9-4F92-9908-1A5B4BD8A002}"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4243B6-54DC-430D-87F4-B7AE25A3E965}"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02C3EA-E5AA-4DDB-9EDA-6F0AFF17B150}"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658A29-3E14-4D42-84FF-184D84B3BA8D}"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17F11F-CC59-45F7-9232-FA5B19D0E740}"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111750-307C-4DF9-9CB2-16092BEDEBA4}"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21C181-8F86-4DDB-A83F-53848096B01A}"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8023A0A-4748-4DD0-9F35-137BEB61F60E}"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82BEF1-A367-407E-BD5E-DC28C388F1F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D73DFC-DD8B-41AD-84EB-AA0669EF186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C84AB0-B12E-4254-BB20-66B26E068B7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A40FC1-A313-4D8D-BDC2-EACF65109C5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9E4FF0-5542-4ACB-9C97-B4AFE142BC9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F37F38-B75B-4CCE-9523-E20CD830A6C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AD67075-38A0-48C7-9362-ADCCA096CC6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CA504F-F509-42C7-9C55-E762888EBCD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967ED0-8A65-4128-8A2B-6B546E3D5B3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E434EF-C1A8-425F-9190-C49A93C9BA7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418A58-F7CA-4EDD-8F69-205DE8370E0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EED21A-0984-4888-8E65-4BC78371D02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6774B8-4EF0-4C4E-930D-18840BCE2FE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C1EF37-9331-4006-9258-9FCFBA2C7DE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057E4D-E08E-4FBD-AD24-8C465D38FC2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DC5B62-6426-43F2-9A03-615F48331F7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FFCE81-F7D1-493B-9A23-AAEFEB416F5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38F11D-FA8F-4079-8915-E3793B7DAA0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309C7A-EF15-4536-9F60-1564A046349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A974F2-B83C-4C2B-9B2A-04ED788408A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FE288D-91F6-4CB1-9EE3-E5EE3C2C8EF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F311D0-C9E4-4C8C-9244-D96BC90DA86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114D4D-9B52-4135-B1A2-7E2CE298830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E279F8-7410-4D76-BB2D-DC845F0F8FD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E0C923-2D41-45DD-B7BA-D8A5B29FD02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562D45-1126-47A9-AD87-ED82639BBCA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58085E-65E4-48BA-8AAE-B6D97A33CF4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2D9957-5DF1-4713-BE28-E66DA2DE791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906955-3EE7-494C-A6CE-DCF202D1A90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1B4AE2-B2E1-481F-9E51-D8EEF5F85D9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61B916-A560-4C21-A94C-34FEFF669FD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5E06A6-BD1F-4367-8A76-3A5EFC49AEF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F0F202-6E1D-4F12-8DE6-CF75B6E7ED1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B5CC80-872B-41D2-81FB-C4E85952090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69963B-3EC5-465D-B14A-73EC7464FE8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DDA1D7-76AD-4E03-B58F-F3902B49955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CD58FA-6C9D-47B3-B025-94CD7C1F0B9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E06B42-2111-490E-847F-CB250D719E7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AEEC76-B9B8-4615-A3F7-09026D13454B}"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1738AF-8CF4-4ABA-9D12-3EE2A3F6256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A7BD7E-0AE3-496C-8536-ABD2189D9CC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FD5228-7E98-4832-BCE2-68144DD875E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041FEF-F699-429A-8E40-A06EBBD889FB}"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A4F882-349D-418E-9FF1-BF2864FD66BE}"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2140DD-1681-4807-9D91-3620D236C3B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9BAC98-0474-4904-BFD7-C41C4DAFCB0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AEE41B-CD5A-4D23-8369-DD8CBB2DAF2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CB477E4-E1EB-4EF3-A2E6-986E4709CAD2}"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418CAB-B7D6-4D51-B95E-89BDAE071D4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37900F-20F5-45FA-AF26-26A437AC78A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689A95-C285-4969-B5C1-F1AED63366AA}"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2DDC8C-4328-464F-9CB1-5147CEBF059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327921-60BC-48B8-A0AE-5BAA8370801C}"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E0B0E2-03F6-4A14-B0ED-186C9F2DB463}"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BA649A-8776-4988-B634-40FA4AB5D203}"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EE7CF6-4A59-48B4-AB03-14561849468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2524214-24CC-4015-A2BA-90DFFACC5BB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9872BC-218A-4181-9301-6EF4ADD42905}"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E4CF20-6D3F-4622-AD39-83003638A462}"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63D8EF-F171-40A0-A334-88EA6B69A69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041938-8EA2-4638-A52D-B6757502360D}"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300B38-1CBB-460D-9AA1-41AA6A6D9DB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286F8A-76D4-47CC-87AC-2D04F273F65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5DD11D-BB5A-4BB9-827E-D4D53DE90D0F}"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9C0FC2-DE27-44FC-BDA6-99F9F689873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CB35AD-D7BE-4433-B92D-50C6EBA8ADF5}"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46218A-5190-4046-95C4-CD32385E33C9}"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BB4D78-5585-4548-96C1-6B8302A25EE0}"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DAA651-9995-4CDB-9388-055492E9525B}"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688659-79C2-409B-8B52-ECF3DC77396D}"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D4BEBC-53BA-4598-95DD-6228A929E182}"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BEB4A74-0352-4476-AB6D-1288315C4DE1}"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8F2E9E-2F59-4FE0-88CE-2D92AFA51316}"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B40910-A149-4D79-A9D4-E38E1F6CF092}"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085481-D265-4D66-BAEC-91B5FBB11848}"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64F22A-6597-4FDC-8228-0EDB087A0F0C}"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33C356-F692-494E-9948-8459B8435EB2}"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61E1F4-CD6C-4B2F-BBC3-D9AD26AE90F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84D399-BF40-49DC-AB19-B726E1447588}"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80EAB5-D9FE-4A6D-9EEF-725DFBC476E7}"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489CCF-1565-4C73-BB63-FFF61FE0784F}"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AFBD2D-F798-4C7F-A4C0-FADC8299D20E}"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A8ED83-B6FE-4920-BDE6-B02ECC822068}"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9E9FE6-29B0-4E40-82FF-692C0A88AA0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B64FEF-DA95-4DB1-808C-BAB3674BC163}"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