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90520" y="877680"/>
            <a:ext cx="4471920" cy="31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0560" y="4349520"/>
            <a:ext cx="473688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190520" y="878040"/>
            <a:ext cx="4475160" cy="316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190520" y="878040"/>
            <a:ext cx="4476960" cy="316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body"/>
          </p:nvPr>
        </p:nvSpPr>
        <p:spPr>
          <a:xfrm>
            <a:off x="1060200" y="4349880"/>
            <a:ext cx="4738680" cy="35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8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8640" y="190620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0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8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8640" y="4161960"/>
            <a:ext cx="251280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040" y="452160"/>
            <a:ext cx="780444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16196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06200"/>
            <a:ext cx="3808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040" y="4161960"/>
            <a:ext cx="780444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6840" y="1717560"/>
            <a:ext cx="8777160" cy="5140440"/>
          </a:xfrm>
          <a:prstGeom prst="roundRect">
            <a:avLst>
              <a:gd name="adj" fmla="val 28"/>
            </a:avLst>
          </a:prstGeom>
          <a:solidFill>
            <a:srgbClr val="ddddd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44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60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16072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060560"/>
            <a:ext cx="165240" cy="833400"/>
          </a:xfrm>
          <a:custGeom>
            <a:avLst/>
            <a:gdLst>
              <a:gd name="textAreaLeft" fmla="*/ 360 w 165240"/>
              <a:gd name="textAreaRight" fmla="*/ 164880 w 165240"/>
              <a:gd name="textAreaTop" fmla="*/ 360 h 833400"/>
              <a:gd name="textAreaBottom" fmla="*/ 833040 h 833400"/>
            </a:gdLst>
            <a:ahLst/>
            <a:rect l="textAreaLeft" t="textAreaTop" r="textAreaRight" b="textAreaBottom"/>
            <a:pathLst>
              <a:path w="21600" h="108751">
                <a:moveTo>
                  <a:pt x="207" y="0"/>
                </a:moveTo>
                <a:arcTo wR="207" hR="207" stAng="16200000" swAng="-5400000"/>
                <a:lnTo>
                  <a:pt x="0" y="108544"/>
                </a:lnTo>
                <a:arcTo wR="207" hR="207" stAng="10800000" swAng="-5400000"/>
                <a:lnTo>
                  <a:pt x="21393" y="108751"/>
                </a:lnTo>
                <a:arcTo wR="207" hR="207" stAng="5400000" swAng="-5400000"/>
                <a:lnTo>
                  <a:pt x="21600" y="207"/>
                </a:lnTo>
                <a:arcTo wR="207" hR="207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80468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VCG: 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 General Purpose Library for Simplicial Complex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472392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212760" indent="0">
              <a:lnSpc>
                <a:spcPct val="75000"/>
              </a:lnSpc>
              <a:spcBef>
                <a:spcPts val="400"/>
              </a:spcBef>
              <a:spcAft>
                <a:spcPts val="249"/>
              </a:spcAft>
              <a:buNone/>
              <a:tabLst>
                <a:tab algn="l" pos="0"/>
                <a:tab algn="l" pos="428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Lucida Sans Unicode"/>
              </a:rPr>
              <a:t>Visual Computing Labora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12760" indent="0">
              <a:lnSpc>
                <a:spcPct val="75000"/>
              </a:lnSpc>
              <a:spcBef>
                <a:spcPts val="400"/>
              </a:spcBef>
              <a:spcAft>
                <a:spcPts val="249"/>
              </a:spcAft>
              <a:buNone/>
              <a:tabLst>
                <a:tab algn="l" pos="0"/>
                <a:tab algn="l" pos="428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Lucida Sans Unicode"/>
              </a:rPr>
              <a:t>ISTI – CN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12760" indent="0">
              <a:lnSpc>
                <a:spcPct val="75000"/>
              </a:lnSpc>
              <a:spcBef>
                <a:spcPts val="400"/>
              </a:spcBef>
              <a:spcAft>
                <a:spcPts val="249"/>
              </a:spcAft>
              <a:buNone/>
              <a:tabLst>
                <a:tab algn="l" pos="0"/>
                <a:tab algn="l" pos="428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Lucida Sans Unicode"/>
              </a:rPr>
              <a:t>Pi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12760" indent="0">
              <a:lnSpc>
                <a:spcPct val="75000"/>
              </a:lnSpc>
              <a:spcBef>
                <a:spcPts val="400"/>
              </a:spcBef>
              <a:spcAft>
                <a:spcPts val="249"/>
              </a:spcAft>
              <a:buNone/>
              <a:tabLst>
                <a:tab algn="l" pos="0"/>
                <a:tab algn="l" pos="428760"/>
                <a:tab algn="l" pos="669960"/>
                <a:tab algn="l" pos="1127160"/>
                <a:tab algn="l" pos="1584360"/>
                <a:tab algn="l" pos="2041560"/>
                <a:tab algn="l" pos="2498760"/>
                <a:tab algn="l" pos="2955960"/>
                <a:tab algn="l" pos="3413160"/>
                <a:tab algn="l" pos="3870360"/>
                <a:tab algn="l" pos="4327560"/>
                <a:tab algn="l" pos="4784760"/>
                <a:tab algn="l" pos="5241960"/>
                <a:tab algn="l" pos="5699160"/>
                <a:tab algn="l" pos="6156360"/>
                <a:tab algn="l" pos="6613560"/>
                <a:tab algn="l" pos="7070760"/>
                <a:tab algn="l" pos="7527960"/>
                <a:tab algn="l" pos="7985160"/>
                <a:tab algn="l" pos="8442360"/>
                <a:tab algn="l" pos="8899560"/>
                <a:tab algn="l" pos="93567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37120" y="6512040"/>
            <a:ext cx="50259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Hello Mesh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808280"/>
            <a:ext cx="83818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lt;vcg/simplex/vertexplus/base.h&gt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lt;vcg/simplex/faceplus/base.h&gt;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lt;vcg/complex/trimesh/base.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MyEdge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las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Edge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MyVertex: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ertexSimp2&lt;MyVertex,MyEdge,MyFace,vcg::Coord3f&gt;{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MyFace  :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ace&lt;MyVertex,MyEdge,MyFace,face::VertexRef&gt;{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MyMesh  :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ri::TriMesh&lt; vector&lt;MyVertex&gt;, vector&lt;MyFace &gt; &gt;{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4114800"/>
            <a:ext cx="58435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ype vertex stores only its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ype face stores only the pointers to its 3 ver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Optional attribut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3000"/>
              </a:lnSpc>
              <a:spcBef>
                <a:spcPts val="451"/>
              </a:spcBef>
              <a:spcAft>
                <a:spcPts val="45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want some attributes only temporarily (ex: the normal per vert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Bef>
                <a:spcPts val="451"/>
              </a:spcBef>
              <a:spcAft>
                <a:spcPts val="45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Bef>
                <a:spcPts val="400"/>
              </a:spcBef>
              <a:spcAft>
                <a:spcPts val="624"/>
              </a:spcAft>
              <a:buClr>
                <a:srgbClr val="000000"/>
              </a:buClr>
              <a:buSzPct val="75000"/>
              <a:buFont typeface="Wingdings" charset="2"/>
              <a:buChar char="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load a mesh without wasting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Bef>
                <a:spcPts val="400"/>
              </a:spcBef>
              <a:spcAft>
                <a:spcPts val="624"/>
              </a:spcAft>
              <a:buClr>
                <a:srgbClr val="000000"/>
              </a:buClr>
              <a:buSzPct val="75000"/>
              <a:buFont typeface="Wingdings" charset="2"/>
              <a:buChar char="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use an algorithm that requires an attribute you don’ t need o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Bef>
                <a:spcPts val="400"/>
              </a:spcBef>
              <a:spcAft>
                <a:spcPts val="561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7000"/>
              </a:lnSpc>
              <a:spcAft>
                <a:spcPts val="45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asy w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Bef>
                <a:spcPts val="499"/>
              </a:spcBef>
              <a:spcAft>
                <a:spcPts val="437"/>
              </a:spcAft>
              <a:buClr>
                <a:srgbClr val="000000"/>
              </a:buClr>
              <a:buSzPct val="75000"/>
              <a:buFont typeface="Wingdings" charset="2"/>
              <a:buChar char="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a vector of normals: the i-th element is the normal of the i-th vertex.  Easy b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7000"/>
              </a:lnSpc>
              <a:spcAft>
                <a:spcPts val="4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transparent: algorithms need to b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now if the normal is an optional attribute to read/write it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7000"/>
              </a:lnSpc>
              <a:spcAft>
                <a:spcPts val="45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to keep track of memory relocation of STL contain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Bef>
                <a:spcPts val="451"/>
              </a:spcBef>
              <a:spcAft>
                <a:spcPts val="561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1040" y="452520"/>
            <a:ext cx="78073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lnSpc>
                <a:spcPct val="87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Optional attribute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7320" cy="45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60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CG provides 2 alternative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Component Fast          [Ocf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Component Compact   [Oc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1000"/>
              </a:lnSpc>
              <a:spcAft>
                <a:spcPts val="601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60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f requires a 4 bytes overhead per vertex, Occ requires a small overhead per me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1000"/>
              </a:lnSpc>
              <a:spcAft>
                <a:spcPts val="601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60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f efficiency is not affected by the number of elements in memory, Occ's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1000"/>
              </a:lnSpc>
              <a:spcAft>
                <a:spcPts val="601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262560" y="3693960"/>
            <a:ext cx="257976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2286000"/>
            <a:ext cx="295272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Ocf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779480"/>
            <a:ext cx="10034640" cy="46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lt;vcg/space/point3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lt;vcg/simplex/vertexplus/base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lt;vcg/simplex/vertexplus/component_ocf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usi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vc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280099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My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MyVertex:</a:t>
            </a:r>
            <a:r>
              <a:rPr b="0" lang="en-US" sz="1400" spc="-1" strike="noStrike">
                <a:solidFill>
                  <a:srgbClr val="280099"/>
                </a:solidFill>
                <a:latin typeface="Courier New"/>
              </a:rPr>
              <a:t>public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ertexSimp2&lt;MyVertex,MyE,vert::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foOcf,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ert::Normal3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c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{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main(int,cha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dc2300"/>
                </a:solidFill>
                <a:latin typeface="Courier New"/>
              </a:rPr>
              <a:t>vector_oc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MyVertex&gt; 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// put some vertices in the 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 i= 0; i &lt; 10; i++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.push_back(MyVertex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// activate the at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.</a:t>
            </a: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EnableNorm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// put some more vertic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in the 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 i= 0; i &lt; 10; i++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.push_back(MyVertex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[2].N()=Point3f(1.0,2,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// drop  the at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.</a:t>
            </a: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DisableNorma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1200" y="2260440"/>
            <a:ext cx="278280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uffix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c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name of the att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29600" y="27432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326280" y="3645000"/>
            <a:ext cx="2566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 the vertices i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ector_oc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390480" y="3873600"/>
            <a:ext cx="27478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6920" y="1233360"/>
            <a:ext cx="295272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ector_ocf.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256000" y="1828800"/>
            <a:ext cx="231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00320" y="2585880"/>
            <a:ext cx="295272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ttribute InfoOc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3600" y="29718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478560" y="1773360"/>
            <a:ext cx="266544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22560" y="3392640"/>
            <a:ext cx="251460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Occ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852560"/>
            <a:ext cx="891540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lt;vcg/space/point3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lt;vcg/container/vector_occ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lt;vcg/simplex/vertexplus/base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lt;vcg/simplex/vertexplus/component_occ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usin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vcg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ass My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MyVertex: public VertexSimp2&lt; MyVertex,MyE,vcg::vert::Normal3fOcc&gt;{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main(int,cha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*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dc2300"/>
                </a:solidFill>
                <a:latin typeface="Courier New"/>
              </a:rPr>
              <a:t>vector_oc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MyVertex&gt; 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// put some vertices in the 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 i= 0; i &lt; 10; i++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.push_back(MyVertex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// activate the at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.</a:t>
            </a: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EnableAttribu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 MyVertex::NormalType&gt;()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// put some more vertic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in the 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 i= 0; i &lt; 10; i++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.push_back(MyVertex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[2].N(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Point3f(1.0,2,3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// drop  the at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.</a:t>
            </a:r>
            <a:r>
              <a:rPr b="1" lang="en-US" sz="1400" spc="-1" strike="noStrike">
                <a:solidFill>
                  <a:srgbClr val="cc3300"/>
                </a:solidFill>
                <a:latin typeface="Courier New"/>
              </a:rPr>
              <a:t>DisableAttribu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 MyVertex::Normal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(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23120" y="1720800"/>
            <a:ext cx="2782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the suffix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name of the att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88040" y="2286000"/>
            <a:ext cx="684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78280" y="3357720"/>
            <a:ext cx="256680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es the vertices in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ector_oc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64960" y="3573360"/>
            <a:ext cx="3657600" cy="303480"/>
          </a:xfrm>
          <a:custGeom>
            <a:avLst/>
            <a:gdLst/>
            <a:ahLst/>
            <a:rect l="l" t="t" r="r" b="b"/>
            <a:pathLst>
              <a:path w="10161" h="842">
                <a:moveTo>
                  <a:pt x="10160" y="2"/>
                </a:moveTo>
                <a:lnTo>
                  <a:pt x="0" y="0"/>
                </a:lnTo>
                <a:lnTo>
                  <a:pt x="0" y="836"/>
                </a:lnTo>
                <a:lnTo>
                  <a:pt x="637" y="84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506920" y="1233360"/>
            <a:ext cx="295272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ector_occ.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mponent.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256000" y="1828800"/>
            <a:ext cx="231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535640" y="1720800"/>
            <a:ext cx="917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71040" y="541080"/>
            <a:ext cx="780732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lnSpc>
                <a:spcPct val="81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User-defined optional attr.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2514600"/>
            <a:ext cx="89154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dc2300"/>
                </a:solidFill>
                <a:latin typeface="Courier New"/>
              </a:rPr>
              <a:t>vector_oc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MyVertex&gt; 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// put some vertices in the 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 i= 0; i &lt; 10; i++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.push_back(MyVertex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// define a user-defined optional at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TempDa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vector_occ&lt;MyVertex&gt;,USER_TYPE&gt;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handl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= v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ewTempDat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USER_TYPE&gt;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// activate the user defined at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2.</a:t>
            </a:r>
            <a:r>
              <a:rPr b="0" lang="en-US" sz="1400" spc="-1" strike="noStrike">
                <a:solidFill>
                  <a:srgbClr val="cc3300"/>
                </a:solidFill>
                <a:latin typeface="Courier New"/>
              </a:rPr>
              <a:t>EnableAttribu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 USER_TYPE&gt;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// put some more vertic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in the 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f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 i= 0; i &lt; 10; i++)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1.push_back(MyVertex(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ndle[&amp;c1[2]] = USER_TYPE_val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// drop  the at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1.</a:t>
            </a:r>
            <a:r>
              <a:rPr b="0" lang="en-US" sz="1400" spc="-1" strike="noStrike">
                <a:solidFill>
                  <a:srgbClr val="cc3300"/>
                </a:solidFill>
                <a:latin typeface="Courier New"/>
              </a:rPr>
              <a:t>DisableAttribu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 USER_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();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828800"/>
            <a:ext cx="281304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in  Occ sty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08108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62120" y="2133720"/>
            <a:ext cx="30477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ocf/occ implement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82520" y="2895480"/>
            <a:ext cx="2590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082520" y="4038480"/>
            <a:ext cx="2590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5400000">
            <a:off x="4990680" y="3924360"/>
            <a:ext cx="2590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89280" y="2530440"/>
            <a:ext cx="26571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vector_oc?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f ver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95040" y="3733920"/>
            <a:ext cx="18676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f 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19280" y="2136600"/>
            <a:ext cx="802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s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08640" y="2362320"/>
            <a:ext cx="28386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L vector of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NormalOc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362320" y="28954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3809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209680" y="3124080"/>
                <a:ext cx="330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5791320" y="3733920"/>
                <a:ext cx="33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2514600" y="3124080"/>
            <a:ext cx="3124080" cy="838440"/>
          </a:xfrm>
          <a:custGeom>
            <a:avLst/>
            <a:gdLst/>
            <a:ahLst/>
            <a:rect l="l" t="t" r="r" b="b"/>
            <a:pathLst>
              <a:path w="1968" h="528">
                <a:moveTo>
                  <a:pt x="0" y="0"/>
                </a:moveTo>
                <a:cubicBezTo>
                  <a:pt x="176" y="67"/>
                  <a:pt x="729" y="315"/>
                  <a:pt x="1057" y="403"/>
                </a:cubicBezTo>
                <a:cubicBezTo>
                  <a:pt x="1385" y="491"/>
                  <a:pt x="1778" y="502"/>
                  <a:pt x="1968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505320"/>
            <a:ext cx="8665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v.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5715000"/>
            <a:ext cx="223704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cg::vert: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al3fO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endCxn id="183" idx="2"/>
          </p:cNvCxnSpPr>
          <p:nvPr/>
        </p:nvCxnSpPr>
        <p:spPr>
          <a:xfrm flipV="1">
            <a:off x="1727280" y="5942880"/>
            <a:ext cx="2160" cy="2293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85" name=""/>
          <p:cNvCxnSpPr>
            <a:stCxn id="183" idx="0"/>
          </p:cNvCxnSpPr>
          <p:nvPr/>
        </p:nvCxnSpPr>
        <p:spPr>
          <a:xfrm flipV="1">
            <a:off x="1728360" y="5485680"/>
            <a:ext cx="2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86" name=""/>
          <p:cNvCxnSpPr>
            <a:endCxn id="183" idx="2"/>
          </p:cNvCxnSpPr>
          <p:nvPr/>
        </p:nvCxnSpPr>
        <p:spPr>
          <a:xfrm flipV="1">
            <a:off x="1727280" y="5942880"/>
            <a:ext cx="2160" cy="2293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1603080" y="6099120"/>
            <a:ext cx="4734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12800" y="5181480"/>
            <a:ext cx="4734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71800" y="5410080"/>
            <a:ext cx="6019920" cy="13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1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Courier New"/>
                <a:ea typeface="Lucida Sans Unicode"/>
              </a:rPr>
              <a:t>templat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 &lt;</a:t>
            </a:r>
            <a:r>
              <a:rPr b="0" lang="en-GB" sz="1400" spc="-1" strike="noStrike">
                <a:solidFill>
                  <a:srgbClr val="333399"/>
                </a:solidFill>
                <a:latin typeface="Courier New"/>
                <a:ea typeface="Lucida Sans Unicode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 T&gt; </a:t>
            </a:r>
            <a:r>
              <a:rPr b="0" lang="en-GB" sz="1400" spc="-1" strike="noStrike">
                <a:solidFill>
                  <a:srgbClr val="333399"/>
                </a:solidFill>
                <a:latin typeface="Courier New"/>
                <a:ea typeface="Lucida Sans Unicode"/>
              </a:rPr>
              <a:t>class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 NormalOcf: public T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400" spc="-1" strike="noStrike">
                <a:solidFill>
                  <a:srgbClr val="333399"/>
                </a:solidFill>
                <a:latin typeface="Courier New"/>
                <a:ea typeface="Lucida Sans Unicode"/>
              </a:rPr>
              <a:t>public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  </a:t>
            </a:r>
            <a:r>
              <a:rPr b="0" lang="en-GB" sz="1400" spc="-1" strike="noStrike">
                <a:solidFill>
                  <a:srgbClr val="333399"/>
                </a:solidFill>
                <a:latin typeface="Courier New"/>
                <a:ea typeface="Lucida Sans Unicode"/>
              </a:rPr>
              <a:t>typedef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 vcg::Point3s Normal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NormalType &amp;N(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// Need to know the position of (*this) in the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	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// vec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2133720"/>
            <a:ext cx="30477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81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ocf implement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82520" y="2895480"/>
            <a:ext cx="2590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82520" y="4038480"/>
            <a:ext cx="2590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5400000">
            <a:off x="4990680" y="3924360"/>
            <a:ext cx="2590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89280" y="2530440"/>
            <a:ext cx="26571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vector_ocf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f ver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5040" y="3733920"/>
            <a:ext cx="18676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f 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9280" y="2136600"/>
            <a:ext cx="802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s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408640" y="2362320"/>
            <a:ext cx="28386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L vector of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NormalO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28954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3809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209680" y="3124080"/>
                <a:ext cx="330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791320" y="3733920"/>
                <a:ext cx="33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2514600" y="3124080"/>
            <a:ext cx="3124080" cy="838440"/>
          </a:xfrm>
          <a:custGeom>
            <a:avLst/>
            <a:gdLst/>
            <a:ahLst/>
            <a:rect l="l" t="t" r="r" b="b"/>
            <a:pathLst>
              <a:path w="1968" h="528">
                <a:moveTo>
                  <a:pt x="0" y="0"/>
                </a:moveTo>
                <a:cubicBezTo>
                  <a:pt x="176" y="67"/>
                  <a:pt x="729" y="315"/>
                  <a:pt x="1057" y="403"/>
                </a:cubicBezTo>
                <a:cubicBezTo>
                  <a:pt x="1385" y="491"/>
                  <a:pt x="1778" y="502"/>
                  <a:pt x="1968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3505320"/>
            <a:ext cx="8665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v.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5715000"/>
            <a:ext cx="223704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cg::vert: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al3fO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"/>
          <p:cNvCxnSpPr>
            <a:endCxn id="205" idx="2"/>
          </p:cNvCxnSpPr>
          <p:nvPr/>
        </p:nvCxnSpPr>
        <p:spPr>
          <a:xfrm flipV="1">
            <a:off x="1727280" y="5942880"/>
            <a:ext cx="2160" cy="2293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07" name=""/>
          <p:cNvCxnSpPr>
            <a:stCxn id="205" idx="0"/>
          </p:cNvCxnSpPr>
          <p:nvPr/>
        </p:nvCxnSpPr>
        <p:spPr>
          <a:xfrm flipV="1">
            <a:off x="1728360" y="5485680"/>
            <a:ext cx="2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08" name=""/>
          <p:cNvCxnSpPr>
            <a:endCxn id="205" idx="2"/>
          </p:cNvCxnSpPr>
          <p:nvPr/>
        </p:nvCxnSpPr>
        <p:spPr>
          <a:xfrm flipV="1">
            <a:off x="1727280" y="5942880"/>
            <a:ext cx="2160" cy="2293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1603080" y="6099120"/>
            <a:ext cx="4734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12800" y="5181480"/>
            <a:ext cx="4734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5410080"/>
            <a:ext cx="6019920" cy="12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1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very element of th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vector_oc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tores a pointer to the first position of the vec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The vector contains one pointer to the first position of every vector of optional attrib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2819520"/>
            <a:ext cx="2590920" cy="75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16280" y="2862360"/>
            <a:ext cx="2352600" cy="226800"/>
          </a:xfrm>
          <a:custGeom>
            <a:avLst/>
            <a:gdLst/>
            <a:ahLst/>
            <a:rect l="l" t="t" r="r" b="b"/>
            <a:pathLst>
              <a:path w="1482" h="143">
                <a:moveTo>
                  <a:pt x="0" y="97"/>
                </a:moveTo>
                <a:cubicBezTo>
                  <a:pt x="126" y="101"/>
                  <a:pt x="509" y="143"/>
                  <a:pt x="756" y="127"/>
                </a:cubicBezTo>
                <a:cubicBezTo>
                  <a:pt x="1003" y="111"/>
                  <a:pt x="1331" y="26"/>
                  <a:pt x="14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762120" y="2133720"/>
            <a:ext cx="30477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81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occ implement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082520" y="2895480"/>
            <a:ext cx="2590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82520" y="4038480"/>
            <a:ext cx="2590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4990680" y="3924360"/>
            <a:ext cx="2590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89280" y="2530440"/>
            <a:ext cx="26571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vector_occ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f ver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5040" y="3733920"/>
            <a:ext cx="18676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vecto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f 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19280" y="2136600"/>
            <a:ext cx="80244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es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307200" y="2895480"/>
            <a:ext cx="28386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L vector of </a:t>
            </a: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NormalO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28954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38098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209680" y="3124080"/>
                <a:ext cx="3304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5791320" y="3733920"/>
                <a:ext cx="330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h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2514600" y="3124080"/>
            <a:ext cx="3124080" cy="838440"/>
          </a:xfrm>
          <a:custGeom>
            <a:avLst/>
            <a:gdLst/>
            <a:ahLst/>
            <a:rect l="l" t="t" r="r" b="b"/>
            <a:pathLst>
              <a:path w="1968" h="528">
                <a:moveTo>
                  <a:pt x="0" y="0"/>
                </a:moveTo>
                <a:cubicBezTo>
                  <a:pt x="176" y="67"/>
                  <a:pt x="729" y="315"/>
                  <a:pt x="1057" y="403"/>
                </a:cubicBezTo>
                <a:cubicBezTo>
                  <a:pt x="1385" y="491"/>
                  <a:pt x="1778" y="502"/>
                  <a:pt x="1968" y="52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14800" y="3505320"/>
            <a:ext cx="8665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urier New"/>
              </a:rPr>
              <a:t>v.N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715000"/>
            <a:ext cx="223704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cg::vert: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al3fO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0" name=""/>
          <p:cNvCxnSpPr>
            <a:endCxn id="229" idx="2"/>
          </p:cNvCxnSpPr>
          <p:nvPr/>
        </p:nvCxnSpPr>
        <p:spPr>
          <a:xfrm flipV="1">
            <a:off x="1727280" y="5942880"/>
            <a:ext cx="2160" cy="2293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231" name=""/>
          <p:cNvCxnSpPr>
            <a:stCxn id="229" idx="0"/>
          </p:cNvCxnSpPr>
          <p:nvPr/>
        </p:nvCxnSpPr>
        <p:spPr>
          <a:xfrm flipV="1">
            <a:off x="1728360" y="5485680"/>
            <a:ext cx="2520" cy="229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232" name=""/>
          <p:cNvCxnSpPr>
            <a:endCxn id="229" idx="2"/>
          </p:cNvCxnSpPr>
          <p:nvPr/>
        </p:nvCxnSpPr>
        <p:spPr>
          <a:xfrm flipV="1">
            <a:off x="1727280" y="5942880"/>
            <a:ext cx="2160" cy="2293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1603080" y="6099120"/>
            <a:ext cx="4734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12800" y="5181480"/>
            <a:ext cx="47340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5565600"/>
            <a:ext cx="601992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1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static class keeps track of where are the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Lucida Sans Unicode"/>
              </a:rPr>
              <a:t>vector_o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stances in a list sorted by the address of their first el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905120"/>
            <a:ext cx="152280" cy="152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1981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581280" y="2057040"/>
            <a:ext cx="0" cy="762120"/>
          </a:xfrm>
          <a:prstGeom prst="line">
            <a:avLst/>
          </a:prstGeom>
          <a:ln w="252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367360" y="1600200"/>
            <a:ext cx="285372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tainer Alloca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16280" y="2862360"/>
            <a:ext cx="2352600" cy="226800"/>
          </a:xfrm>
          <a:custGeom>
            <a:avLst/>
            <a:gdLst/>
            <a:ahLst/>
            <a:rect l="l" t="t" r="r" b="b"/>
            <a:pathLst>
              <a:path w="1482" h="143">
                <a:moveTo>
                  <a:pt x="0" y="97"/>
                </a:moveTo>
                <a:cubicBezTo>
                  <a:pt x="126" y="101"/>
                  <a:pt x="509" y="143"/>
                  <a:pt x="756" y="127"/>
                </a:cubicBezTo>
                <a:cubicBezTo>
                  <a:pt x="1003" y="111"/>
                  <a:pt x="1331" y="26"/>
                  <a:pt x="14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urfing  the mesh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30120" indent="-249480">
              <a:lnSpc>
                <a:spcPct val="93000"/>
              </a:lnSpc>
              <a:spcBef>
                <a:spcPts val="700"/>
              </a:spcBef>
              <a:spcAft>
                <a:spcPts val="524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the concept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os (p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ion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249480">
              <a:lnSpc>
                <a:spcPct val="93000"/>
              </a:lnSpc>
              <a:spcBef>
                <a:spcPts val="700"/>
              </a:spcBef>
              <a:spcAft>
                <a:spcPts val="524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po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d+1-tu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3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3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lnSpc>
                <a:spcPct val="93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0">
              <a:lnSpc>
                <a:spcPct val="81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0">
              <a:lnSpc>
                <a:spcPct val="81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0">
              <a:lnSpc>
                <a:spcPct val="81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0">
              <a:lnSpc>
                <a:spcPct val="81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0">
              <a:lnSpc>
                <a:spcPct val="81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2400" indent="0">
              <a:lnSpc>
                <a:spcPct val="93000"/>
              </a:lnSpc>
              <a:spcBef>
                <a:spcPts val="601"/>
              </a:spcBef>
              <a:spcAft>
                <a:spcPts val="751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638680" y="3119400"/>
            <a:ext cx="1371600" cy="160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7005240" y="3119040"/>
            <a:ext cx="466920" cy="21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633640" y="4719600"/>
            <a:ext cx="1838520" cy="54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38680" y="4226040"/>
            <a:ext cx="762120" cy="498240"/>
          </a:xfrm>
          <a:custGeom>
            <a:avLst/>
            <a:gdLst/>
            <a:ahLst/>
            <a:rect l="l" t="t" r="r" b="b"/>
            <a:pathLst>
              <a:path w="480" h="314">
                <a:moveTo>
                  <a:pt x="0" y="314"/>
                </a:moveTo>
                <a:lnTo>
                  <a:pt x="480" y="122"/>
                </a:lnTo>
                <a:lnTo>
                  <a:pt x="268" y="0"/>
                </a:lnTo>
                <a:lnTo>
                  <a:pt x="0" y="31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472360" y="4761000"/>
            <a:ext cx="421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93320" y="5257800"/>
            <a:ext cx="421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36120" y="2819520"/>
            <a:ext cx="421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07160" y="4038480"/>
            <a:ext cx="244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088040" y="4038480"/>
            <a:ext cx="433800" cy="3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73640" y="3733920"/>
            <a:ext cx="433800" cy="3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402240" y="4800600"/>
            <a:ext cx="433800" cy="34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62000" y="5638680"/>
            <a:ext cx="12553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v0,e2,f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5105520"/>
            <a:ext cx="228600" cy="533160"/>
          </a:xfrm>
          <a:custGeom>
            <a:avLst/>
            <a:gdLst/>
            <a:ahLst/>
            <a:rect l="l" t="t" r="r" b="b"/>
            <a:pathLst>
              <a:path w="144" h="336">
                <a:moveTo>
                  <a:pt x="144" y="336"/>
                </a:moveTo>
                <a:cubicBezTo>
                  <a:pt x="84" y="192"/>
                  <a:pt x="24" y="4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5880" y="4148280"/>
            <a:ext cx="425520" cy="1566720"/>
          </a:xfrm>
          <a:custGeom>
            <a:avLst/>
            <a:gdLst/>
            <a:ahLst/>
            <a:rect l="l" t="t" r="r" b="b"/>
            <a:pathLst>
              <a:path w="268" h="987">
                <a:moveTo>
                  <a:pt x="0" y="987"/>
                </a:moveTo>
                <a:cubicBezTo>
                  <a:pt x="38" y="879"/>
                  <a:pt x="188" y="504"/>
                  <a:pt x="228" y="340"/>
                </a:cubicBezTo>
                <a:cubicBezTo>
                  <a:pt x="268" y="176"/>
                  <a:pt x="238" y="71"/>
                  <a:pt x="24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323040" y="4408560"/>
            <a:ext cx="560520" cy="1288800"/>
          </a:xfrm>
          <a:custGeom>
            <a:avLst/>
            <a:gdLst/>
            <a:ahLst/>
            <a:rect l="l" t="t" r="r" b="b"/>
            <a:pathLst>
              <a:path w="353" h="812">
                <a:moveTo>
                  <a:pt x="0" y="812"/>
                </a:moveTo>
                <a:cubicBezTo>
                  <a:pt x="50" y="761"/>
                  <a:pt x="243" y="638"/>
                  <a:pt x="298" y="503"/>
                </a:cubicBezTo>
                <a:cubicBezTo>
                  <a:pt x="353" y="368"/>
                  <a:pt x="322" y="105"/>
                  <a:pt x="3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1447920" y="2895480"/>
                <a:ext cx="28130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762120" y="3505320"/>
                <a:ext cx="4508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s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fac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f 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VCG: the goals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4000"/>
              </a:lnSpc>
              <a:spcBef>
                <a:spcPts val="799"/>
              </a:spcBef>
              <a:spcAft>
                <a:spcPts val="60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amework to implement algorithms on Simplicial Complexes of order d=0..3 in R^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4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4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4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4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4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atform (MS 7.1,Intel,gn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4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: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ttp://vcg.sourceforg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84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o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3000"/>
              </a:lnSpc>
              <a:spcBef>
                <a:spcPts val="451"/>
              </a:spcBef>
              <a:spcAft>
                <a:spcPts val="337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component of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only be changed  in another value to obtain another 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40920" y="613728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535040" y="1924200"/>
            <a:ext cx="8557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2386080" y="1924200"/>
            <a:ext cx="295200" cy="12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1530000" y="2836440"/>
            <a:ext cx="115092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535040" y="2557440"/>
            <a:ext cx="476280" cy="284040"/>
          </a:xfrm>
          <a:custGeom>
            <a:avLst/>
            <a:gdLst/>
            <a:ahLst/>
            <a:rect l="l" t="t" r="r" b="b"/>
            <a:pathLst>
              <a:path w="480" h="314">
                <a:moveTo>
                  <a:pt x="0" y="314"/>
                </a:moveTo>
                <a:lnTo>
                  <a:pt x="480" y="122"/>
                </a:lnTo>
                <a:lnTo>
                  <a:pt x="268" y="0"/>
                </a:lnTo>
                <a:lnTo>
                  <a:pt x="0" y="31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31720" y="293688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630160" y="312408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44320" y="182880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88440" y="252396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38640" y="252396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27720" y="221292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11680" y="295920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1535040" y="3600360"/>
            <a:ext cx="8557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2386080" y="3600000"/>
            <a:ext cx="295200" cy="12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flipV="1">
            <a:off x="1530000" y="4512960"/>
            <a:ext cx="115092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535040" y="4233960"/>
            <a:ext cx="476280" cy="284040"/>
          </a:xfrm>
          <a:custGeom>
            <a:avLst/>
            <a:gdLst/>
            <a:ahLst/>
            <a:rect l="l" t="t" r="r" b="b"/>
            <a:pathLst>
              <a:path w="480" h="314">
                <a:moveTo>
                  <a:pt x="0" y="314"/>
                </a:moveTo>
                <a:lnTo>
                  <a:pt x="480" y="122"/>
                </a:lnTo>
                <a:lnTo>
                  <a:pt x="268" y="0"/>
                </a:lnTo>
                <a:lnTo>
                  <a:pt x="0" y="31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431720" y="461340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630160" y="474336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44320" y="350532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188440" y="420048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438640" y="420048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827720" y="388944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011680" y="463536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344600" y="5124600"/>
            <a:ext cx="8557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2195640" y="5124600"/>
            <a:ext cx="295200" cy="12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1339560" y="6036840"/>
            <a:ext cx="115092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44600" y="5757840"/>
            <a:ext cx="476280" cy="284040"/>
          </a:xfrm>
          <a:custGeom>
            <a:avLst/>
            <a:gdLst/>
            <a:ahLst/>
            <a:rect l="l" t="t" r="r" b="b"/>
            <a:pathLst>
              <a:path w="480" h="314">
                <a:moveTo>
                  <a:pt x="0" y="314"/>
                </a:moveTo>
                <a:lnTo>
                  <a:pt x="480" y="122"/>
                </a:lnTo>
                <a:lnTo>
                  <a:pt x="268" y="0"/>
                </a:lnTo>
                <a:lnTo>
                  <a:pt x="0" y="31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39720" y="624852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153880" y="502920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98000" y="572436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48200" y="572436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636920" y="541332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821240" y="615960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693960" y="2190600"/>
            <a:ext cx="1473480" cy="338040"/>
            <a:chOff x="3693960" y="2190600"/>
            <a:chExt cx="1473480" cy="338040"/>
          </a:xfrm>
        </p:grpSpPr>
        <p:sp>
          <p:nvSpPr>
            <p:cNvPr id="297" name=""/>
            <p:cNvSpPr/>
            <p:nvPr/>
          </p:nvSpPr>
          <p:spPr>
            <a:xfrm>
              <a:off x="3693960" y="2513160"/>
              <a:ext cx="1446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52280" y="2190600"/>
              <a:ext cx="1415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.FlipV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3693960" y="3962520"/>
            <a:ext cx="1473480" cy="338040"/>
            <a:chOff x="3693960" y="3962520"/>
            <a:chExt cx="1473480" cy="338040"/>
          </a:xfrm>
        </p:grpSpPr>
        <p:sp>
          <p:nvSpPr>
            <p:cNvPr id="300" name=""/>
            <p:cNvSpPr/>
            <p:nvPr/>
          </p:nvSpPr>
          <p:spPr>
            <a:xfrm>
              <a:off x="3693960" y="4284360"/>
              <a:ext cx="1446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752280" y="3962520"/>
              <a:ext cx="1415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.Flip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693960" y="5638680"/>
            <a:ext cx="1473480" cy="338040"/>
            <a:chOff x="3693960" y="5638680"/>
            <a:chExt cx="1473480" cy="338040"/>
          </a:xfrm>
        </p:grpSpPr>
        <p:sp>
          <p:nvSpPr>
            <p:cNvPr id="303" name=""/>
            <p:cNvSpPr/>
            <p:nvPr/>
          </p:nvSpPr>
          <p:spPr>
            <a:xfrm>
              <a:off x="3693960" y="5961240"/>
              <a:ext cx="14464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52280" y="5638680"/>
              <a:ext cx="1415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.FlipF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 flipV="1">
            <a:off x="6486480" y="1924200"/>
            <a:ext cx="8557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7337520" y="1924200"/>
            <a:ext cx="295200" cy="12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6481440" y="2836440"/>
            <a:ext cx="115092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4520" y="1924200"/>
            <a:ext cx="257040" cy="352440"/>
          </a:xfrm>
          <a:custGeom>
            <a:avLst/>
            <a:gdLst/>
            <a:ahLst/>
            <a:rect l="l" t="t" r="r" b="b"/>
            <a:pathLst>
              <a:path w="162" h="222">
                <a:moveTo>
                  <a:pt x="162" y="0"/>
                </a:moveTo>
                <a:lnTo>
                  <a:pt x="72" y="222"/>
                </a:lnTo>
                <a:lnTo>
                  <a:pt x="0" y="168"/>
                </a:lnTo>
                <a:lnTo>
                  <a:pt x="162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382800" y="293688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581600" y="312408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295760" y="182880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39880" y="252396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390080" y="252396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779160" y="221292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963120" y="295920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486480" y="3600360"/>
            <a:ext cx="8557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7337520" y="3600000"/>
            <a:ext cx="295200" cy="122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6481440" y="4512960"/>
            <a:ext cx="115092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86480" y="4344840"/>
            <a:ext cx="476280" cy="255600"/>
          </a:xfrm>
          <a:custGeom>
            <a:avLst/>
            <a:gdLst/>
            <a:ahLst/>
            <a:rect l="l" t="t" r="r" b="b"/>
            <a:pathLst>
              <a:path w="300" h="161">
                <a:moveTo>
                  <a:pt x="0" y="109"/>
                </a:moveTo>
                <a:lnTo>
                  <a:pt x="300" y="0"/>
                </a:lnTo>
                <a:lnTo>
                  <a:pt x="245" y="161"/>
                </a:lnTo>
                <a:lnTo>
                  <a:pt x="0" y="10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82800" y="461340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81600" y="474336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295760" y="350532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139880" y="420048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390080" y="420048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79160" y="388944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963120" y="463536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6296040" y="5124600"/>
            <a:ext cx="8557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7147080" y="5124600"/>
            <a:ext cx="295200" cy="12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6291000" y="6036840"/>
            <a:ext cx="115092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296040" y="5657760"/>
            <a:ext cx="266760" cy="384120"/>
          </a:xfrm>
          <a:custGeom>
            <a:avLst/>
            <a:gdLst/>
            <a:ahLst/>
            <a:rect l="l" t="t" r="r" b="b"/>
            <a:pathLst>
              <a:path w="168" h="242">
                <a:moveTo>
                  <a:pt x="0" y="242"/>
                </a:moveTo>
                <a:lnTo>
                  <a:pt x="35" y="0"/>
                </a:lnTo>
                <a:lnTo>
                  <a:pt x="168" y="63"/>
                </a:lnTo>
                <a:lnTo>
                  <a:pt x="0" y="24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92360" y="613728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91160" y="624852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105320" y="502920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949440" y="572436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199640" y="572436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588360" y="541332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72680" y="615960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6051240" y="4890960"/>
            <a:ext cx="2379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6051600" y="4890960"/>
            <a:ext cx="107640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85960" y="5124600"/>
            <a:ext cx="308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388680" y="2590920"/>
            <a:ext cx="2277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v0,e2,f}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v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e2,f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65000" y="4343400"/>
            <a:ext cx="2277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v0,e2,f}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v0,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e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f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65360" y="6019920"/>
            <a:ext cx="2404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v0,e2,f}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{v2,e2,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f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-228600" y="4343400"/>
            <a:ext cx="181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1118880" y="4890960"/>
            <a:ext cx="23796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1119240" y="4890960"/>
            <a:ext cx="107640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53600" y="5124600"/>
            <a:ext cx="308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o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3000"/>
              </a:lnSpc>
              <a:spcBef>
                <a:spcPts val="499"/>
              </a:spcBef>
              <a:spcAft>
                <a:spcPts val="374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running over the faces around a vert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205640" y="1600200"/>
            <a:ext cx="4094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templ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type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aceType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o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extE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rt( f-&gt;V(z)==v || f-&gt;V((z+1)%3)==v 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ip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ipF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rt( f-&gt;V(z)==v || f-&gt;V((z+1)%3)==v 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68360" y="4457880"/>
            <a:ext cx="8557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1318680" y="4457880"/>
            <a:ext cx="295560" cy="12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463320" y="5370120"/>
            <a:ext cx="115092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68360" y="5091120"/>
            <a:ext cx="476280" cy="284040"/>
          </a:xfrm>
          <a:custGeom>
            <a:avLst/>
            <a:gdLst/>
            <a:ahLst/>
            <a:rect l="l" t="t" r="r" b="b"/>
            <a:pathLst>
              <a:path w="480" h="314">
                <a:moveTo>
                  <a:pt x="0" y="314"/>
                </a:moveTo>
                <a:lnTo>
                  <a:pt x="480" y="122"/>
                </a:lnTo>
                <a:lnTo>
                  <a:pt x="268" y="0"/>
                </a:lnTo>
                <a:lnTo>
                  <a:pt x="0" y="31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9000" y="5470560"/>
            <a:ext cx="51912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563480" y="560088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277640" y="436248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119960" y="505764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71960" y="505764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60680" y="474660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945000" y="549288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941480" y="4819680"/>
            <a:ext cx="1473120" cy="338040"/>
            <a:chOff x="1941480" y="4819680"/>
            <a:chExt cx="1473120" cy="338040"/>
          </a:xfrm>
        </p:grpSpPr>
        <p:sp>
          <p:nvSpPr>
            <p:cNvPr id="363" name=""/>
            <p:cNvSpPr/>
            <p:nvPr/>
          </p:nvSpPr>
          <p:spPr>
            <a:xfrm>
              <a:off x="1941480" y="5141880"/>
              <a:ext cx="1446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99440" y="4819680"/>
              <a:ext cx="1415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.FlipE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"/>
          <p:cNvSpPr/>
          <p:nvPr/>
        </p:nvSpPr>
        <p:spPr>
          <a:xfrm flipV="1">
            <a:off x="3646440" y="4457880"/>
            <a:ext cx="8557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4497480" y="4457880"/>
            <a:ext cx="295200" cy="12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3641400" y="5370120"/>
            <a:ext cx="115092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646440" y="5202360"/>
            <a:ext cx="476280" cy="255600"/>
          </a:xfrm>
          <a:custGeom>
            <a:avLst/>
            <a:gdLst/>
            <a:ahLst/>
            <a:rect l="l" t="t" r="r" b="b"/>
            <a:pathLst>
              <a:path w="300" h="161">
                <a:moveTo>
                  <a:pt x="0" y="109"/>
                </a:moveTo>
                <a:lnTo>
                  <a:pt x="300" y="0"/>
                </a:lnTo>
                <a:lnTo>
                  <a:pt x="245" y="161"/>
                </a:lnTo>
                <a:lnTo>
                  <a:pt x="0" y="10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90480" y="542916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741560" y="560088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455720" y="436248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99840" y="505764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0040" y="505764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39120" y="474660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123080" y="549288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5040360" y="4819680"/>
            <a:ext cx="1473120" cy="338040"/>
            <a:chOff x="5040360" y="4819680"/>
            <a:chExt cx="1473120" cy="338040"/>
          </a:xfrm>
        </p:grpSpPr>
        <p:sp>
          <p:nvSpPr>
            <p:cNvPr id="377" name=""/>
            <p:cNvSpPr/>
            <p:nvPr/>
          </p:nvSpPr>
          <p:spPr>
            <a:xfrm>
              <a:off x="5040360" y="5141880"/>
              <a:ext cx="14461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98320" y="4819680"/>
              <a:ext cx="1415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9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p.FlipF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>
            <a:off x="6943680" y="4419720"/>
            <a:ext cx="8557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 flipV="1">
            <a:off x="7794720" y="4419720"/>
            <a:ext cx="295200" cy="12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938640" y="5331960"/>
            <a:ext cx="115092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43680" y="5337000"/>
            <a:ext cx="389160" cy="339840"/>
          </a:xfrm>
          <a:custGeom>
            <a:avLst/>
            <a:gdLst/>
            <a:ahLst/>
            <a:rect l="l" t="t" r="r" b="b"/>
            <a:pathLst>
              <a:path w="245" h="214">
                <a:moveTo>
                  <a:pt x="0" y="0"/>
                </a:moveTo>
                <a:lnTo>
                  <a:pt x="173" y="214"/>
                </a:lnTo>
                <a:lnTo>
                  <a:pt x="245" y="52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590880" y="541008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038800" y="556272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752960" y="432432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97080" y="5019840"/>
            <a:ext cx="223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847280" y="501984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236360" y="470844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420320" y="5454720"/>
            <a:ext cx="35136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2240" y="5334120"/>
            <a:ext cx="30240" cy="1066680"/>
          </a:xfrm>
          <a:custGeom>
            <a:avLst/>
            <a:gdLst/>
            <a:ahLst/>
            <a:rect l="l" t="t" r="r" b="b"/>
            <a:pathLst>
              <a:path w="19" h="672">
                <a:moveTo>
                  <a:pt x="0" y="0"/>
                </a:moveTo>
                <a:lnTo>
                  <a:pt x="19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70680" y="5629320"/>
            <a:ext cx="1095480" cy="771480"/>
          </a:xfrm>
          <a:custGeom>
            <a:avLst/>
            <a:gdLst/>
            <a:ahLst/>
            <a:rect l="l" t="t" r="r" b="b"/>
            <a:pathLst>
              <a:path w="690" h="486">
                <a:moveTo>
                  <a:pt x="690" y="0"/>
                </a:moveTo>
                <a:lnTo>
                  <a:pt x="0" y="48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276680" y="5638680"/>
            <a:ext cx="308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665520" y="5372280"/>
            <a:ext cx="30240" cy="1066680"/>
          </a:xfrm>
          <a:custGeom>
            <a:avLst/>
            <a:gdLst/>
            <a:ahLst/>
            <a:rect l="l" t="t" r="r" b="b"/>
            <a:pathLst>
              <a:path w="19" h="672">
                <a:moveTo>
                  <a:pt x="0" y="0"/>
                </a:moveTo>
                <a:lnTo>
                  <a:pt x="19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693960" y="5667480"/>
            <a:ext cx="1095480" cy="771480"/>
          </a:xfrm>
          <a:custGeom>
            <a:avLst/>
            <a:gdLst/>
            <a:ahLst/>
            <a:rect l="l" t="t" r="r" b="b"/>
            <a:pathLst>
              <a:path w="690" h="486">
                <a:moveTo>
                  <a:pt x="690" y="0"/>
                </a:moveTo>
                <a:lnTo>
                  <a:pt x="0" y="48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999960" y="5676840"/>
            <a:ext cx="308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74840" y="5372280"/>
            <a:ext cx="29880" cy="1066680"/>
          </a:xfrm>
          <a:custGeom>
            <a:avLst/>
            <a:gdLst/>
            <a:ahLst/>
            <a:rect l="l" t="t" r="r" b="b"/>
            <a:pathLst>
              <a:path w="19" h="672">
                <a:moveTo>
                  <a:pt x="0" y="0"/>
                </a:moveTo>
                <a:lnTo>
                  <a:pt x="19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03280" y="5667480"/>
            <a:ext cx="1095480" cy="771480"/>
          </a:xfrm>
          <a:custGeom>
            <a:avLst/>
            <a:gdLst/>
            <a:ahLst/>
            <a:rect l="l" t="t" r="r" b="b"/>
            <a:pathLst>
              <a:path w="690" h="486">
                <a:moveTo>
                  <a:pt x="690" y="0"/>
                </a:moveTo>
                <a:lnTo>
                  <a:pt x="0" y="48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9280" y="5676840"/>
            <a:ext cx="30888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637600" y="1743120"/>
            <a:ext cx="27410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vcg/simplex/face/pos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333333"/>
                </a:solidFill>
                <a:latin typeface="Arial"/>
              </a:rPr>
              <a:t>Pos</a:t>
            </a: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 Implementation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3000"/>
              </a:lnSpc>
              <a:spcBef>
                <a:spcPts val="700"/>
              </a:spcBef>
              <a:spcAft>
                <a:spcPts val="524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pointers to face and three integers in each fa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81280" y="3305160"/>
            <a:ext cx="1676160" cy="1676520"/>
          </a:xfrm>
          <a:custGeom>
            <a:avLst/>
            <a:gdLst/>
            <a:ahLst/>
            <a:rect l="l" t="t" r="r" b="b"/>
            <a:pathLst>
              <a:path w="1056" h="1056">
                <a:moveTo>
                  <a:pt x="0" y="1056"/>
                </a:moveTo>
                <a:lnTo>
                  <a:pt x="480" y="0"/>
                </a:lnTo>
                <a:lnTo>
                  <a:pt x="1056" y="1056"/>
                </a:lnTo>
                <a:lnTo>
                  <a:pt x="0" y="10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52760" y="3200400"/>
            <a:ext cx="1638360" cy="1771560"/>
          </a:xfrm>
          <a:custGeom>
            <a:avLst/>
            <a:gdLst/>
            <a:ahLst/>
            <a:rect l="l" t="t" r="r" b="b"/>
            <a:pathLst>
              <a:path w="1032" h="1116">
                <a:moveTo>
                  <a:pt x="0" y="78"/>
                </a:moveTo>
                <a:lnTo>
                  <a:pt x="1032" y="0"/>
                </a:lnTo>
                <a:lnTo>
                  <a:pt x="570" y="1116"/>
                </a:lnTo>
                <a:lnTo>
                  <a:pt x="0" y="78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" y="3305160"/>
            <a:ext cx="1857240" cy="1666800"/>
          </a:xfrm>
          <a:custGeom>
            <a:avLst/>
            <a:gdLst/>
            <a:ahLst/>
            <a:rect l="l" t="t" r="r" b="b"/>
            <a:pathLst>
              <a:path w="1170" h="1050">
                <a:moveTo>
                  <a:pt x="1170" y="0"/>
                </a:moveTo>
                <a:lnTo>
                  <a:pt x="0" y="84"/>
                </a:lnTo>
                <a:lnTo>
                  <a:pt x="690" y="1050"/>
                </a:lnTo>
                <a:lnTo>
                  <a:pt x="1170" y="0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847960" y="414324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238480" y="414324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543040" y="47530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86120" y="4057560"/>
            <a:ext cx="218880" cy="123840"/>
          </a:xfrm>
          <a:custGeom>
            <a:avLst/>
            <a:gdLst/>
            <a:ahLst/>
            <a:rect l="l" t="t" r="r" b="b"/>
            <a:pathLst>
              <a:path w="138" h="78">
                <a:moveTo>
                  <a:pt x="0" y="78"/>
                </a:moveTo>
                <a:lnTo>
                  <a:pt x="13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8960" y="4114800"/>
            <a:ext cx="247680" cy="66600"/>
          </a:xfrm>
          <a:custGeom>
            <a:avLst/>
            <a:gdLst/>
            <a:ahLst/>
            <a:rect l="l" t="t" r="r" b="b"/>
            <a:pathLst>
              <a:path w="156" h="42">
                <a:moveTo>
                  <a:pt x="156" y="4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911240" y="4791240"/>
            <a:ext cx="452520" cy="695160"/>
          </a:xfrm>
          <a:custGeom>
            <a:avLst/>
            <a:gdLst/>
            <a:ahLst/>
            <a:rect l="l" t="t" r="r" b="b"/>
            <a:pathLst>
              <a:path w="285" h="438">
                <a:moveTo>
                  <a:pt x="158" y="0"/>
                </a:moveTo>
                <a:cubicBezTo>
                  <a:pt x="134" y="63"/>
                  <a:pt x="0" y="318"/>
                  <a:pt x="14" y="378"/>
                </a:cubicBezTo>
                <a:cubicBezTo>
                  <a:pt x="28" y="438"/>
                  <a:pt x="199" y="419"/>
                  <a:pt x="242" y="360"/>
                </a:cubicBezTo>
                <a:cubicBezTo>
                  <a:pt x="285" y="301"/>
                  <a:pt x="266" y="94"/>
                  <a:pt x="272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781280" y="4981680"/>
            <a:ext cx="16761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92080" y="472140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47760" y="472140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361960" y="342900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05160" y="3508200"/>
            <a:ext cx="330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325520" y="3584520"/>
            <a:ext cx="330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392560" y="4241880"/>
            <a:ext cx="231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49640" y="4721400"/>
            <a:ext cx="266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935440" y="4340160"/>
            <a:ext cx="266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249640" y="3730680"/>
            <a:ext cx="266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563480" y="457200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172960" y="335268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01360" y="342900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564080" y="2952720"/>
            <a:ext cx="4432680" cy="35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.FFp(1)==&amp;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.FFi(1) =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.FFp(2) == &amp;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.FFi(2) =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.FFp(0) == &amp;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.FFi(0) =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is manifold along the edge “i”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.FFp(i)-&gt;f.FFp(f.FFi(i)) == &amp;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773160" y="327672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630160" y="327672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268440" y="460224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088080" y="4191120"/>
            <a:ext cx="2660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2970000" y="5027400"/>
            <a:ext cx="231480" cy="688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51200" y="5678640"/>
            <a:ext cx="8398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71040" y="496440"/>
            <a:ext cx="780588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lnSpc>
                <a:spcPct val="81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333333"/>
                </a:solidFill>
                <a:latin typeface="Arial"/>
              </a:rPr>
              <a:t>Pos: non manifoldnes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Bef>
                <a:spcPts val="575"/>
              </a:spcBef>
              <a:spcAft>
                <a:spcPts val="524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ks also for non manifold mes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1000"/>
              </a:lnSpc>
              <a:spcBef>
                <a:spcPts val="575"/>
              </a:spcBef>
              <a:spcAft>
                <a:spcPts val="524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Bef>
                <a:spcPts val="575"/>
              </a:spcBef>
              <a:spcAft>
                <a:spcPts val="524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edge is non manifold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for some face adjacent to 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390840" y="4965840"/>
            <a:ext cx="898560" cy="1027080"/>
          </a:xfrm>
          <a:custGeom>
            <a:avLst/>
            <a:gdLst/>
            <a:ahLst/>
            <a:rect l="l" t="t" r="r" b="b"/>
            <a:pathLst>
              <a:path w="2496" h="2852">
                <a:moveTo>
                  <a:pt x="0" y="2851"/>
                </a:moveTo>
                <a:lnTo>
                  <a:pt x="2495" y="2139"/>
                </a:lnTo>
                <a:lnTo>
                  <a:pt x="1426" y="0"/>
                </a:lnTo>
                <a:lnTo>
                  <a:pt x="0" y="2851"/>
                </a:lnTo>
              </a:path>
            </a:pathLst>
          </a:custGeom>
          <a:solidFill>
            <a:srgbClr val="80808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576600" y="4579920"/>
            <a:ext cx="328680" cy="430200"/>
          </a:xfrm>
          <a:custGeom>
            <a:avLst/>
            <a:gdLst/>
            <a:ahLst/>
            <a:rect l="l" t="t" r="r" b="b"/>
            <a:pathLst>
              <a:path w="913" h="1196">
                <a:moveTo>
                  <a:pt x="0" y="1195"/>
                </a:moveTo>
                <a:lnTo>
                  <a:pt x="198" y="0"/>
                </a:lnTo>
                <a:lnTo>
                  <a:pt x="912" y="1073"/>
                </a:lnTo>
                <a:lnTo>
                  <a:pt x="0" y="1195"/>
                </a:lnTo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78200" y="4965840"/>
            <a:ext cx="1027080" cy="1027080"/>
          </a:xfrm>
          <a:custGeom>
            <a:avLst/>
            <a:gdLst/>
            <a:ahLst/>
            <a:rect l="l" t="t" r="r" b="b"/>
            <a:pathLst>
              <a:path w="2851" h="2851">
                <a:moveTo>
                  <a:pt x="1425" y="2850"/>
                </a:moveTo>
                <a:lnTo>
                  <a:pt x="0" y="356"/>
                </a:lnTo>
                <a:lnTo>
                  <a:pt x="2850" y="0"/>
                </a:lnTo>
                <a:lnTo>
                  <a:pt x="1425" y="2850"/>
                </a:lnTo>
              </a:path>
            </a:pathLst>
          </a:custGeom>
          <a:solidFill>
            <a:srgbClr val="ff000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94080" y="4964040"/>
            <a:ext cx="509760" cy="1033560"/>
          </a:xfrm>
          <a:custGeom>
            <a:avLst/>
            <a:gdLst/>
            <a:ahLst/>
            <a:rect l="l" t="t" r="r" b="b"/>
            <a:pathLst>
              <a:path w="1417" h="2871">
                <a:moveTo>
                  <a:pt x="0" y="2870"/>
                </a:moveTo>
                <a:lnTo>
                  <a:pt x="507" y="122"/>
                </a:lnTo>
                <a:lnTo>
                  <a:pt x="1416" y="0"/>
                </a:lnTo>
                <a:lnTo>
                  <a:pt x="0" y="2870"/>
                </a:lnTo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3392640" y="4578120"/>
            <a:ext cx="255600" cy="14079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3646080" y="4578480"/>
            <a:ext cx="258840" cy="387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072120" y="4138200"/>
            <a:ext cx="1125720" cy="577800"/>
            <a:chOff x="6072120" y="4138200"/>
            <a:chExt cx="1125720" cy="577800"/>
          </a:xfrm>
        </p:grpSpPr>
        <p:sp>
          <p:nvSpPr>
            <p:cNvPr id="440" name=""/>
            <p:cNvSpPr/>
            <p:nvPr/>
          </p:nvSpPr>
          <p:spPr>
            <a:xfrm>
              <a:off x="6072120" y="4698720"/>
              <a:ext cx="563040" cy="17280"/>
            </a:xfrm>
            <a:prstGeom prst="roundRect">
              <a:avLst>
                <a:gd name="adj" fmla="val 10000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35160" y="4698720"/>
              <a:ext cx="562680" cy="17280"/>
            </a:xfrm>
            <a:prstGeom prst="roundRect">
              <a:avLst>
                <a:gd name="adj" fmla="val 1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6200000">
              <a:off x="6352920" y="4410360"/>
              <a:ext cx="561960" cy="17280"/>
            </a:xfrm>
            <a:prstGeom prst="roundRect">
              <a:avLst>
                <a:gd name="adj" fmla="val 1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 flipH="1" flipV="1">
            <a:off x="6719760" y="4510080"/>
            <a:ext cx="192240" cy="185760"/>
          </a:xfrm>
          <a:prstGeom prst="line">
            <a:avLst/>
          </a:prstGeom>
          <a:ln w="367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6401880" y="4460760"/>
            <a:ext cx="220680" cy="204840"/>
          </a:xfrm>
          <a:prstGeom prst="line">
            <a:avLst/>
          </a:prstGeom>
          <a:ln w="367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462720" y="4768920"/>
            <a:ext cx="339840" cy="7920"/>
          </a:xfrm>
          <a:prstGeom prst="line">
            <a:avLst/>
          </a:prstGeom>
          <a:ln w="367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072120" y="5504040"/>
            <a:ext cx="563760" cy="17280"/>
          </a:xfrm>
          <a:prstGeom prst="roundRect">
            <a:avLst>
              <a:gd name="adj" fmla="val 1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35880" y="5504040"/>
            <a:ext cx="563400" cy="17280"/>
          </a:xfrm>
          <a:prstGeom prst="roundRect">
            <a:avLst>
              <a:gd name="adj" fmla="val 1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240" bIns="-3024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6352920" y="5214600"/>
            <a:ext cx="563760" cy="17640"/>
          </a:xfrm>
          <a:prstGeom prst="roundRect">
            <a:avLst>
              <a:gd name="adj" fmla="val 1000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6668640" y="5273640"/>
            <a:ext cx="243000" cy="225360"/>
          </a:xfrm>
          <a:prstGeom prst="line">
            <a:avLst/>
          </a:prstGeom>
          <a:ln w="367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638760" y="5167440"/>
            <a:ext cx="303480" cy="210960"/>
          </a:xfrm>
          <a:prstGeom prst="line">
            <a:avLst/>
          </a:prstGeom>
          <a:ln w="367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6462720" y="5572080"/>
            <a:ext cx="339840" cy="7920"/>
          </a:xfrm>
          <a:prstGeom prst="line">
            <a:avLst/>
          </a:prstGeom>
          <a:ln w="367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72120" y="4700520"/>
            <a:ext cx="563760" cy="17640"/>
          </a:xfrm>
          <a:prstGeom prst="roundRect">
            <a:avLst>
              <a:gd name="adj" fmla="val 10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5880" y="4700520"/>
            <a:ext cx="563400" cy="17640"/>
          </a:xfrm>
          <a:prstGeom prst="roundRect">
            <a:avLst>
              <a:gd name="adj" fmla="val 10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rot="16200000">
            <a:off x="6352920" y="4411440"/>
            <a:ext cx="563760" cy="17640"/>
          </a:xfrm>
          <a:prstGeom prst="roundRect">
            <a:avLst>
              <a:gd name="adj" fmla="val 10000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880" bIns="-2988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 flipV="1">
            <a:off x="6719760" y="4510080"/>
            <a:ext cx="192240" cy="185760"/>
          </a:xfrm>
          <a:prstGeom prst="line">
            <a:avLst/>
          </a:prstGeom>
          <a:ln w="367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6401880" y="4460760"/>
            <a:ext cx="220680" cy="204840"/>
          </a:xfrm>
          <a:prstGeom prst="line">
            <a:avLst/>
          </a:prstGeom>
          <a:ln w="367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6462720" y="4768920"/>
            <a:ext cx="339840" cy="7920"/>
          </a:xfrm>
          <a:prstGeom prst="line">
            <a:avLst/>
          </a:prstGeom>
          <a:ln w="367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6548040" y="6441840"/>
            <a:ext cx="358920" cy="6120"/>
          </a:xfrm>
          <a:prstGeom prst="line">
            <a:avLst/>
          </a:prstGeom>
          <a:ln w="3672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6072120" y="5725800"/>
            <a:ext cx="1125720" cy="577800"/>
            <a:chOff x="6072120" y="5725800"/>
            <a:chExt cx="1125720" cy="577800"/>
          </a:xfrm>
        </p:grpSpPr>
        <p:sp>
          <p:nvSpPr>
            <p:cNvPr id="460" name=""/>
            <p:cNvSpPr/>
            <p:nvPr/>
          </p:nvSpPr>
          <p:spPr>
            <a:xfrm>
              <a:off x="6072120" y="6286680"/>
              <a:ext cx="563040" cy="16920"/>
            </a:xfrm>
            <a:prstGeom prst="roundRect">
              <a:avLst>
                <a:gd name="adj" fmla="val 10000"/>
              </a:avLst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35160" y="6286680"/>
              <a:ext cx="562680" cy="16920"/>
            </a:xfrm>
            <a:prstGeom prst="roundRect">
              <a:avLst>
                <a:gd name="adj" fmla="val 1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6200000">
              <a:off x="6352920" y="5997960"/>
              <a:ext cx="561960" cy="17280"/>
            </a:xfrm>
            <a:prstGeom prst="roundRect">
              <a:avLst>
                <a:gd name="adj" fmla="val 1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 flipH="1">
            <a:off x="6401880" y="6048360"/>
            <a:ext cx="220680" cy="204840"/>
          </a:xfrm>
          <a:prstGeom prst="line">
            <a:avLst/>
          </a:prstGeom>
          <a:ln w="367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462720" y="6356520"/>
            <a:ext cx="339840" cy="7920"/>
          </a:xfrm>
          <a:prstGeom prst="line">
            <a:avLst/>
          </a:prstGeom>
          <a:ln w="3672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6072120" y="5725800"/>
            <a:ext cx="1125720" cy="577800"/>
            <a:chOff x="6072120" y="5725800"/>
            <a:chExt cx="1125720" cy="577800"/>
          </a:xfrm>
        </p:grpSpPr>
        <p:sp>
          <p:nvSpPr>
            <p:cNvPr id="466" name=""/>
            <p:cNvSpPr/>
            <p:nvPr/>
          </p:nvSpPr>
          <p:spPr>
            <a:xfrm>
              <a:off x="6072120" y="6286680"/>
              <a:ext cx="563040" cy="16920"/>
            </a:xfrm>
            <a:prstGeom prst="roundRect">
              <a:avLst>
                <a:gd name="adj" fmla="val 1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635160" y="6286680"/>
              <a:ext cx="562680" cy="16920"/>
            </a:xfrm>
            <a:prstGeom prst="roundRect">
              <a:avLst>
                <a:gd name="adj" fmla="val 10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6352920" y="5997960"/>
              <a:ext cx="561960" cy="17280"/>
            </a:xfrm>
            <a:prstGeom prst="roundRect">
              <a:avLst>
                <a:gd name="adj" fmla="val 1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240" bIns="-30240" anchor="ctr">
              <a:noAutofit/>
            </a:bodyPr>
            <a:p>
              <a:pPr>
                <a:lnSpc>
                  <a:spcPct val="81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 flipH="1">
            <a:off x="6401880" y="6048360"/>
            <a:ext cx="220680" cy="204840"/>
          </a:xfrm>
          <a:prstGeom prst="line">
            <a:avLst/>
          </a:prstGeom>
          <a:ln w="367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6462720" y="6356520"/>
            <a:ext cx="339840" cy="7920"/>
          </a:xfrm>
          <a:prstGeom prst="line">
            <a:avLst/>
          </a:prstGeom>
          <a:ln w="367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422360" y="3592440"/>
            <a:ext cx="44323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.FFp(i)-&gt;f.FFp(f.FFi(i))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!=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&amp;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71040" y="496440"/>
            <a:ext cx="780588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lnSpc>
                <a:spcPct val="81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Pos: exampl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60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ing neighbor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19040" y="2503440"/>
            <a:ext cx="89298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lt;vcg/simplex/vertexplus/base.h&gt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lt;vcg/simplex/faceplus/base.h&gt;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vcg/simplex/face/pos.h&gt;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lt;vcg/complex/trimesh/base.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MyEdge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las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Edge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MyVertex: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ertexSimp2&lt;MyVertex,MyEdge,MyFace,vert::Coord3f&gt;{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MyFace  :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ace&lt;MyVertex,MyEdge,MyFace,face::VertexRef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e::FFAdj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{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MyMesh  :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ri::TriMesh&lt; vector&lt;MyVertex&gt;, vector&lt;MyFace &gt; &gt;{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Mesh mes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ring(FaceType * f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MyMesh::FaceType&gt; p(f,f-&gt;V(0),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(;p.F()!= f;p.NextE())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//do something with p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VFIterator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3000"/>
              </a:lnSpc>
              <a:spcBef>
                <a:spcPts val="700"/>
              </a:spcBef>
              <a:spcAft>
                <a:spcPts val="45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run  through the list of faces sharing a 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Bef>
                <a:spcPts val="700"/>
              </a:spcBef>
              <a:spcAft>
                <a:spcPts val="45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FIterator is a cou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Bef>
                <a:spcPts val="700"/>
              </a:spcBef>
              <a:spcAft>
                <a:spcPts val="45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possible VFIterator for each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4343400" y="2133720"/>
                <a:ext cx="24415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FIterator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8" name=""/>
          <p:cNvSpPr/>
          <p:nvPr/>
        </p:nvSpPr>
        <p:spPr>
          <a:xfrm flipV="1">
            <a:off x="1433520" y="3811320"/>
            <a:ext cx="914400" cy="13748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2346480" y="3811320"/>
            <a:ext cx="917280" cy="13748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432080" y="5184720"/>
            <a:ext cx="1831680" cy="18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432080" y="4727520"/>
            <a:ext cx="4600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1431720" y="4956120"/>
            <a:ext cx="6886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 flipV="1">
            <a:off x="1888920" y="4726080"/>
            <a:ext cx="23148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119320" y="3811320"/>
            <a:ext cx="22860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119320" y="4270320"/>
            <a:ext cx="457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347920" y="3813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2803680" y="4725720"/>
            <a:ext cx="460080" cy="4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2576520" y="4726080"/>
            <a:ext cx="22860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576520" y="49561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119320" y="3813120"/>
            <a:ext cx="457200" cy="457200"/>
          </a:xfrm>
          <a:custGeom>
            <a:avLst/>
            <a:gdLst/>
            <a:ahLst/>
            <a:rect l="l" t="t" r="r" b="b"/>
            <a:pathLst>
              <a:path w="1271" h="1271">
                <a:moveTo>
                  <a:pt x="0" y="1270"/>
                </a:moveTo>
                <a:lnTo>
                  <a:pt x="1270" y="1270"/>
                </a:lnTo>
                <a:lnTo>
                  <a:pt x="635" y="0"/>
                </a:lnTo>
                <a:lnTo>
                  <a:pt x="0" y="1270"/>
                </a:lnTo>
              </a:path>
            </a:pathLst>
          </a:custGeom>
          <a:solidFill>
            <a:srgbClr val="008080"/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433520" y="4727520"/>
            <a:ext cx="685800" cy="457200"/>
          </a:xfrm>
          <a:custGeom>
            <a:avLst/>
            <a:gdLst/>
            <a:ahLst/>
            <a:rect l="l" t="t" r="r" b="b"/>
            <a:pathLst>
              <a:path w="1906" h="1271">
                <a:moveTo>
                  <a:pt x="0" y="1270"/>
                </a:moveTo>
                <a:lnTo>
                  <a:pt x="1905" y="635"/>
                </a:lnTo>
                <a:lnTo>
                  <a:pt x="1270" y="0"/>
                </a:lnTo>
                <a:lnTo>
                  <a:pt x="0" y="1270"/>
                </a:lnTo>
              </a:path>
            </a:pathLst>
          </a:custGeom>
          <a:solidFill>
            <a:srgbClr val="008080"/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76520" y="4727520"/>
            <a:ext cx="685800" cy="457200"/>
          </a:xfrm>
          <a:custGeom>
            <a:avLst/>
            <a:gdLst/>
            <a:ahLst/>
            <a:rect l="l" t="t" r="r" b="b"/>
            <a:pathLst>
              <a:path w="1906" h="1271">
                <a:moveTo>
                  <a:pt x="0" y="635"/>
                </a:moveTo>
                <a:lnTo>
                  <a:pt x="1905" y="1270"/>
                </a:lnTo>
                <a:lnTo>
                  <a:pt x="635" y="0"/>
                </a:lnTo>
                <a:lnTo>
                  <a:pt x="0" y="635"/>
                </a:lnTo>
              </a:path>
            </a:pathLst>
          </a:custGeom>
          <a:solidFill>
            <a:srgbClr val="008080"/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1109520" y="5025960"/>
                <a:ext cx="3240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3262320" y="5025960"/>
                <a:ext cx="3240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2252520" y="3425760"/>
                <a:ext cx="32400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252520" y="449892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 flipV="1">
            <a:off x="519120" y="3811680"/>
            <a:ext cx="1828800" cy="23184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19120" y="4041720"/>
            <a:ext cx="914400" cy="11430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04920" y="4727520"/>
            <a:ext cx="228600" cy="457200"/>
          </a:xfrm>
          <a:custGeom>
            <a:avLst/>
            <a:gdLst/>
            <a:ahLst/>
            <a:rect l="l" t="t" r="r" b="b"/>
            <a:pathLst>
              <a:path w="637" h="1271">
                <a:moveTo>
                  <a:pt x="636" y="1270"/>
                </a:moveTo>
                <a:lnTo>
                  <a:pt x="635" y="0"/>
                </a:lnTo>
                <a:lnTo>
                  <a:pt x="0" y="0"/>
                </a:lnTo>
                <a:lnTo>
                  <a:pt x="636" y="1270"/>
                </a:lnTo>
              </a:path>
            </a:pathLst>
          </a:custGeom>
          <a:solidFill>
            <a:srgbClr val="008080"/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1209600" y="4270320"/>
                <a:ext cx="3859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3263760" y="5184720"/>
            <a:ext cx="546120" cy="129240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438280" y="6172200"/>
            <a:ext cx="1371600" cy="3049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rot="19608600">
            <a:off x="2971800" y="5295600"/>
            <a:ext cx="457200" cy="457200"/>
          </a:xfrm>
          <a:custGeom>
            <a:avLst/>
            <a:gdLst/>
            <a:ahLst/>
            <a:rect l="l" t="t" r="r" b="b"/>
            <a:pathLst>
              <a:path w="1272" h="1271">
                <a:moveTo>
                  <a:pt x="635" y="1270"/>
                </a:moveTo>
                <a:lnTo>
                  <a:pt x="1271" y="0"/>
                </a:lnTo>
                <a:lnTo>
                  <a:pt x="0" y="635"/>
                </a:lnTo>
                <a:lnTo>
                  <a:pt x="635" y="1270"/>
                </a:lnTo>
              </a:path>
            </a:pathLst>
          </a:custGeom>
          <a:solidFill>
            <a:srgbClr val="008080"/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2971800" y="5791320"/>
                <a:ext cx="3859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5" name=""/>
          <p:cNvSpPr/>
          <p:nvPr/>
        </p:nvSpPr>
        <p:spPr>
          <a:xfrm flipV="1">
            <a:off x="3262320" y="3884760"/>
            <a:ext cx="852480" cy="1301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3262320" y="3884760"/>
            <a:ext cx="852480" cy="13017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2346480" y="3811320"/>
            <a:ext cx="1769760" cy="759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rot="7518600">
            <a:off x="1743480" y="3818520"/>
            <a:ext cx="625320" cy="303120"/>
          </a:xfrm>
          <a:custGeom>
            <a:avLst/>
            <a:gdLst/>
            <a:ahLst/>
            <a:rect l="l" t="t" r="r" b="b"/>
            <a:pathLst>
              <a:path w="1736" h="841">
                <a:moveTo>
                  <a:pt x="1735" y="205"/>
                </a:moveTo>
                <a:lnTo>
                  <a:pt x="1100" y="840"/>
                </a:lnTo>
                <a:lnTo>
                  <a:pt x="0" y="0"/>
                </a:lnTo>
                <a:lnTo>
                  <a:pt x="1735" y="205"/>
                </a:lnTo>
              </a:path>
            </a:pathLst>
          </a:custGeom>
          <a:solidFill>
            <a:srgbClr val="008080"/>
          </a:solidFill>
          <a:ln w="93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"/>
              <p:cNvSpPr txBox="1"/>
              <p:nvPr/>
            </p:nvSpPr>
            <p:spPr>
              <a:xfrm>
                <a:off x="3041640" y="4114800"/>
                <a:ext cx="38736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0" name=""/>
          <p:cNvSpPr/>
          <p:nvPr/>
        </p:nvSpPr>
        <p:spPr>
          <a:xfrm flipV="1">
            <a:off x="2438280" y="5181480"/>
            <a:ext cx="838440" cy="9907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1447560" y="5181480"/>
            <a:ext cx="990360" cy="99072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4289400" y="4056120"/>
                <a:ext cx="4473720" cy="19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e>
                        </m:acc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71040" y="496440"/>
            <a:ext cx="780588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lnSpc>
                <a:spcPct val="81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VFIterator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5880" cy="42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Bef>
                <a:spcPts val="700"/>
              </a:spcBef>
              <a:spcAft>
                <a:spcPts val="45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rtex holds a pointer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e of  the adjacent the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Bef>
                <a:spcPts val="700"/>
              </a:spcBef>
              <a:spcAft>
                <a:spcPts val="45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face holds, for each of its tree vertices, a pointer to the next face on the respectiv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209680" y="3252960"/>
            <a:ext cx="1676520" cy="1676160"/>
          </a:xfrm>
          <a:custGeom>
            <a:avLst/>
            <a:gdLst/>
            <a:ahLst/>
            <a:rect l="l" t="t" r="r" b="b"/>
            <a:pathLst>
              <a:path w="1056" h="1056">
                <a:moveTo>
                  <a:pt x="0" y="1056"/>
                </a:moveTo>
                <a:lnTo>
                  <a:pt x="480" y="0"/>
                </a:lnTo>
                <a:lnTo>
                  <a:pt x="1056" y="1056"/>
                </a:lnTo>
                <a:lnTo>
                  <a:pt x="0" y="105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9680" y="4938840"/>
            <a:ext cx="1981440" cy="1457280"/>
          </a:xfrm>
          <a:custGeom>
            <a:avLst/>
            <a:gdLst/>
            <a:ahLst/>
            <a:rect l="l" t="t" r="r" b="b"/>
            <a:pathLst>
              <a:path w="1248" h="918">
                <a:moveTo>
                  <a:pt x="888" y="918"/>
                </a:moveTo>
                <a:lnTo>
                  <a:pt x="0" y="0"/>
                </a:lnTo>
                <a:lnTo>
                  <a:pt x="1248" y="360"/>
                </a:lnTo>
                <a:lnTo>
                  <a:pt x="888" y="918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00080" y="4919760"/>
            <a:ext cx="1209600" cy="1933560"/>
          </a:xfrm>
          <a:custGeom>
            <a:avLst/>
            <a:gdLst/>
            <a:ahLst/>
            <a:rect l="l" t="t" r="r" b="b"/>
            <a:pathLst>
              <a:path w="762" h="1218">
                <a:moveTo>
                  <a:pt x="0" y="822"/>
                </a:moveTo>
                <a:lnTo>
                  <a:pt x="720" y="1218"/>
                </a:lnTo>
                <a:lnTo>
                  <a:pt x="762" y="0"/>
                </a:lnTo>
                <a:lnTo>
                  <a:pt x="0" y="822"/>
                </a:lnTo>
                <a:close/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76480" y="50817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438280" y="462456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521000" y="4632480"/>
            <a:ext cx="955440" cy="1106280"/>
          </a:xfrm>
          <a:custGeom>
            <a:avLst/>
            <a:gdLst/>
            <a:ahLst/>
            <a:rect l="l" t="t" r="r" b="b"/>
            <a:pathLst>
              <a:path w="602" h="697">
                <a:moveTo>
                  <a:pt x="602" y="7"/>
                </a:moveTo>
                <a:cubicBezTo>
                  <a:pt x="519" y="25"/>
                  <a:pt x="184" y="0"/>
                  <a:pt x="104" y="115"/>
                </a:cubicBezTo>
                <a:cubicBezTo>
                  <a:pt x="0" y="284"/>
                  <a:pt x="118" y="576"/>
                  <a:pt x="122" y="6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895480" y="5310360"/>
            <a:ext cx="330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77960" y="5614920"/>
            <a:ext cx="330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821320" y="4187880"/>
            <a:ext cx="2311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42240" y="3471840"/>
            <a:ext cx="2512440" cy="27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VFp() ==&amp;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.VFi() =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.VFp(0)==&amp;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.VFi(1) =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2.VFp(2) == &amp;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2.VFi(2) =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1.VFp(1) ==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1.VFi(1) =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24000" y="5119560"/>
            <a:ext cx="857160" cy="743040"/>
          </a:xfrm>
          <a:custGeom>
            <a:avLst/>
            <a:gdLst/>
            <a:ahLst/>
            <a:rect l="l" t="t" r="r" b="b"/>
            <a:pathLst>
              <a:path w="540" h="468">
                <a:moveTo>
                  <a:pt x="0" y="0"/>
                </a:moveTo>
                <a:cubicBezTo>
                  <a:pt x="29" y="56"/>
                  <a:pt x="84" y="302"/>
                  <a:pt x="174" y="336"/>
                </a:cubicBezTo>
                <a:cubicBezTo>
                  <a:pt x="408" y="468"/>
                  <a:pt x="464" y="232"/>
                  <a:pt x="540" y="20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419200" y="5091120"/>
            <a:ext cx="1457640" cy="57240"/>
          </a:xfrm>
          <a:custGeom>
            <a:avLst/>
            <a:gdLst/>
            <a:ahLst/>
            <a:rect l="l" t="t" r="r" b="b"/>
            <a:pathLst>
              <a:path w="918" h="36">
                <a:moveTo>
                  <a:pt x="0" y="0"/>
                </a:moveTo>
                <a:cubicBezTo>
                  <a:pt x="153" y="6"/>
                  <a:pt x="727" y="29"/>
                  <a:pt x="918" y="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419200" y="505296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797640" y="4965840"/>
            <a:ext cx="534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39720" y="462456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829880" y="515772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15680" y="5081760"/>
            <a:ext cx="34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209680" y="4548240"/>
            <a:ext cx="914400" cy="38088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cubicBezTo>
                  <a:pt x="73" y="227"/>
                  <a:pt x="342" y="202"/>
                  <a:pt x="438" y="162"/>
                </a:cubicBezTo>
                <a:cubicBezTo>
                  <a:pt x="534" y="122"/>
                  <a:pt x="547" y="34"/>
                  <a:pt x="57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128680" y="4811760"/>
            <a:ext cx="157320" cy="193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35000" y="4653000"/>
            <a:ext cx="2955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VFIterator: exampl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1000"/>
              </a:lnSpc>
              <a:spcAft>
                <a:spcPts val="60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ing neighbor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2108160"/>
            <a:ext cx="9601200" cy="44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lt;vcg/simplex/vertexplus/base.h&gt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lt;vcg/simplex/faceplus/base.h&gt;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&lt;vcg/simplex/face/pos.h&gt;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#inclu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lt;vcg/complex/trimesh/base.h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MyEdge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lass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Edge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;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MyVertex: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ertexSimp2&lt;MyVertex,MyEdge,MyFace,vert::Coord3f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ert::VFAdj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{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MyFace  :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ace&lt;MyVertex,MyEdge,MyFace,face::VertexRef,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e::VFAdj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gt;{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MyMesh  :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ri::TriMesh&lt; vector&lt;MyVertex&gt;, vector&lt;MyFace &gt; &gt;{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yMesh mesh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Courier New"/>
              </a:rPr>
              <a:t>voi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ring(MyMesh::VertexType * v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FItera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MyMesh::FaceType&gt; vi(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(;!=vi.End();++vi)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8000"/>
                </a:solidFill>
                <a:latin typeface="Courier New"/>
              </a:rPr>
              <a:t>//do something with p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71040" y="496440"/>
            <a:ext cx="780588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31640" indent="0" algn="ctr">
              <a:lnSpc>
                <a:spcPct val="81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Manifoldnes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71040" y="1906200"/>
            <a:ext cx="780588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60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trimesh is not manifold if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42880" y="3038400"/>
            <a:ext cx="38498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re are more than 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Bef>
                <a:spcPts val="437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ces sharing the same ed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0280" y="4618080"/>
            <a:ext cx="416088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1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faces adjacen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vertex counted by running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o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ound the vertex are 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43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unning with  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VFIter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345360" y="3024360"/>
            <a:ext cx="898560" cy="1027080"/>
          </a:xfrm>
          <a:custGeom>
            <a:avLst/>
            <a:gdLst/>
            <a:ahLst/>
            <a:rect l="l" t="t" r="r" b="b"/>
            <a:pathLst>
              <a:path w="2496" h="2852">
                <a:moveTo>
                  <a:pt x="0" y="2851"/>
                </a:moveTo>
                <a:lnTo>
                  <a:pt x="2495" y="2139"/>
                </a:lnTo>
                <a:lnTo>
                  <a:pt x="1426" y="0"/>
                </a:lnTo>
                <a:lnTo>
                  <a:pt x="0" y="2851"/>
                </a:lnTo>
              </a:path>
            </a:pathLst>
          </a:custGeom>
          <a:solidFill>
            <a:srgbClr val="80808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529320" y="2639880"/>
            <a:ext cx="328680" cy="430200"/>
          </a:xfrm>
          <a:custGeom>
            <a:avLst/>
            <a:gdLst/>
            <a:ahLst/>
            <a:rect l="l" t="t" r="r" b="b"/>
            <a:pathLst>
              <a:path w="913" h="1196">
                <a:moveTo>
                  <a:pt x="0" y="1195"/>
                </a:moveTo>
                <a:lnTo>
                  <a:pt x="198" y="0"/>
                </a:lnTo>
                <a:lnTo>
                  <a:pt x="912" y="1073"/>
                </a:lnTo>
                <a:lnTo>
                  <a:pt x="0" y="1195"/>
                </a:lnTo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830920" y="3024360"/>
            <a:ext cx="1027080" cy="1027080"/>
          </a:xfrm>
          <a:custGeom>
            <a:avLst/>
            <a:gdLst/>
            <a:ahLst/>
            <a:rect l="l" t="t" r="r" b="b"/>
            <a:pathLst>
              <a:path w="2851" h="2851">
                <a:moveTo>
                  <a:pt x="1425" y="2850"/>
                </a:moveTo>
                <a:lnTo>
                  <a:pt x="0" y="356"/>
                </a:lnTo>
                <a:lnTo>
                  <a:pt x="2850" y="0"/>
                </a:lnTo>
                <a:lnTo>
                  <a:pt x="1425" y="2850"/>
                </a:lnTo>
              </a:path>
            </a:pathLst>
          </a:custGeom>
          <a:solidFill>
            <a:srgbClr val="ff000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348240" y="3022560"/>
            <a:ext cx="509760" cy="1033560"/>
          </a:xfrm>
          <a:custGeom>
            <a:avLst/>
            <a:gdLst/>
            <a:ahLst/>
            <a:rect l="l" t="t" r="r" b="b"/>
            <a:pathLst>
              <a:path w="1417" h="2871">
                <a:moveTo>
                  <a:pt x="0" y="2870"/>
                </a:moveTo>
                <a:lnTo>
                  <a:pt x="507" y="122"/>
                </a:lnTo>
                <a:lnTo>
                  <a:pt x="1416" y="0"/>
                </a:lnTo>
                <a:lnTo>
                  <a:pt x="0" y="2870"/>
                </a:lnTo>
              </a:path>
            </a:pathLst>
          </a:custGeom>
          <a:solidFill>
            <a:srgbClr val="008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6346800" y="2636640"/>
            <a:ext cx="255600" cy="14079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 flipV="1">
            <a:off x="6600960" y="2637000"/>
            <a:ext cx="258480" cy="387360"/>
          </a:xfrm>
          <a:prstGeom prst="line">
            <a:avLst/>
          </a:prstGeom>
          <a:ln w="18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84520" y="3424320"/>
            <a:ext cx="1181160" cy="1440"/>
          </a:xfrm>
          <a:prstGeom prst="line">
            <a:avLst/>
          </a:prstGeom>
          <a:ln w="54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484520" y="5332320"/>
            <a:ext cx="1181160" cy="1800"/>
          </a:xfrm>
          <a:prstGeom prst="line">
            <a:avLst/>
          </a:prstGeom>
          <a:ln w="547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562880" y="4495680"/>
            <a:ext cx="898560" cy="1027080"/>
          </a:xfrm>
          <a:custGeom>
            <a:avLst/>
            <a:gdLst/>
            <a:ahLst/>
            <a:rect l="l" t="t" r="r" b="b"/>
            <a:pathLst>
              <a:path w="2496" h="2852">
                <a:moveTo>
                  <a:pt x="0" y="2851"/>
                </a:moveTo>
                <a:lnTo>
                  <a:pt x="2495" y="2139"/>
                </a:lnTo>
                <a:lnTo>
                  <a:pt x="1426" y="0"/>
                </a:lnTo>
                <a:lnTo>
                  <a:pt x="0" y="2851"/>
                </a:lnTo>
              </a:path>
            </a:pathLst>
          </a:custGeom>
          <a:solidFill>
            <a:srgbClr val="80808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562880" y="5265720"/>
            <a:ext cx="898560" cy="833400"/>
          </a:xfrm>
          <a:custGeom>
            <a:avLst/>
            <a:gdLst/>
            <a:ahLst/>
            <a:rect l="l" t="t" r="r" b="b"/>
            <a:pathLst>
              <a:path w="2496" h="2313">
                <a:moveTo>
                  <a:pt x="0" y="712"/>
                </a:moveTo>
                <a:lnTo>
                  <a:pt x="2495" y="0"/>
                </a:lnTo>
                <a:lnTo>
                  <a:pt x="2178" y="2312"/>
                </a:lnTo>
                <a:lnTo>
                  <a:pt x="0" y="712"/>
                </a:lnTo>
              </a:path>
            </a:pathLst>
          </a:custGeom>
          <a:solidFill>
            <a:srgbClr val="80808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562880" y="5522760"/>
            <a:ext cx="784080" cy="819360"/>
          </a:xfrm>
          <a:custGeom>
            <a:avLst/>
            <a:gdLst/>
            <a:ahLst/>
            <a:rect l="l" t="t" r="r" b="b"/>
            <a:pathLst>
              <a:path w="2179" h="2274">
                <a:moveTo>
                  <a:pt x="0" y="0"/>
                </a:moveTo>
                <a:lnTo>
                  <a:pt x="330" y="2273"/>
                </a:lnTo>
                <a:lnTo>
                  <a:pt x="2178" y="1600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40640" y="4672080"/>
            <a:ext cx="822240" cy="850680"/>
          </a:xfrm>
          <a:custGeom>
            <a:avLst/>
            <a:gdLst/>
            <a:ahLst/>
            <a:rect l="l" t="t" r="r" b="b"/>
            <a:pathLst>
              <a:path w="2285" h="2362">
                <a:moveTo>
                  <a:pt x="2284" y="2361"/>
                </a:moveTo>
                <a:lnTo>
                  <a:pt x="1080" y="0"/>
                </a:lnTo>
                <a:lnTo>
                  <a:pt x="0" y="1847"/>
                </a:lnTo>
                <a:lnTo>
                  <a:pt x="2284" y="2361"/>
                </a:lnTo>
              </a:path>
            </a:pathLst>
          </a:custGeom>
          <a:solidFill>
            <a:srgbClr val="80808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740640" y="5337000"/>
            <a:ext cx="822240" cy="733680"/>
          </a:xfrm>
          <a:custGeom>
            <a:avLst/>
            <a:gdLst/>
            <a:ahLst/>
            <a:rect l="l" t="t" r="r" b="b"/>
            <a:pathLst>
              <a:path w="2285" h="2036">
                <a:moveTo>
                  <a:pt x="2284" y="514"/>
                </a:moveTo>
                <a:lnTo>
                  <a:pt x="392" y="2035"/>
                </a:lnTo>
                <a:lnTo>
                  <a:pt x="0" y="0"/>
                </a:lnTo>
                <a:lnTo>
                  <a:pt x="2284" y="514"/>
                </a:lnTo>
              </a:path>
            </a:pathLst>
          </a:custGeom>
          <a:solidFill>
            <a:srgbClr val="80808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881760" y="5522760"/>
            <a:ext cx="681120" cy="947880"/>
          </a:xfrm>
          <a:custGeom>
            <a:avLst/>
            <a:gdLst/>
            <a:ahLst/>
            <a:rect l="l" t="t" r="r" b="b"/>
            <a:pathLst>
              <a:path w="1893" h="2632">
                <a:moveTo>
                  <a:pt x="1892" y="0"/>
                </a:moveTo>
                <a:lnTo>
                  <a:pt x="0" y="1521"/>
                </a:lnTo>
                <a:lnTo>
                  <a:pt x="829" y="2631"/>
                </a:lnTo>
                <a:lnTo>
                  <a:pt x="1892" y="0"/>
                </a:lnTo>
              </a:path>
            </a:pathLst>
          </a:custGeom>
          <a:solidFill>
            <a:srgbClr val="808080"/>
          </a:solidFill>
          <a:ln w="18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512120" y="5438880"/>
            <a:ext cx="129960" cy="12996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068560" y="4064040"/>
            <a:ext cx="5238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337760" y="496440"/>
            <a:ext cx="7805880" cy="11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Basic Algorithms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52280" y="152280"/>
            <a:ext cx="1219320" cy="838440"/>
          </a:xfrm>
          <a:custGeom>
            <a:avLst/>
            <a:gdLst>
              <a:gd name="textAreaLeft" fmla="*/ 61200 w 1219320"/>
              <a:gd name="textAreaRight" fmla="*/ 1164960 w 1219320"/>
              <a:gd name="textAreaTop" fmla="*/ 179640 h 838440"/>
              <a:gd name="textAreaBottom" fmla="*/ 787680 h 8384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76240" y="1143000"/>
            <a:ext cx="1338480" cy="609480"/>
          </a:xfrm>
          <a:custGeom>
            <a:avLst/>
            <a:gdLst>
              <a:gd name="textAreaLeft" fmla="*/ 66960 w 1338480"/>
              <a:gd name="textAreaRight" fmla="*/ 1278720 w 1338480"/>
              <a:gd name="textAreaTop" fmla="*/ 130320 h 609480"/>
              <a:gd name="textAreaBottom" fmla="*/ 572760 h 609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1" name=""/>
          <p:cNvCxnSpPr>
            <a:stCxn id="559" idx="21"/>
            <a:endCxn id="560" idx="10"/>
          </p:cNvCxnSpPr>
          <p:nvPr/>
        </p:nvCxnSpPr>
        <p:spPr>
          <a:xfrm flipH="1" rot="16200000">
            <a:off x="589680" y="1162080"/>
            <a:ext cx="457920" cy="114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"/>
          <p:cNvCxnSpPr>
            <a:stCxn id="560" idx="11"/>
            <a:endCxn id="563" idx="10"/>
          </p:cNvCxnSpPr>
          <p:nvPr/>
        </p:nvCxnSpPr>
        <p:spPr>
          <a:xfrm flipH="1" rot="16200000">
            <a:off x="1401480" y="1896480"/>
            <a:ext cx="381960" cy="9288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563" name=""/>
          <p:cNvSpPr/>
          <p:nvPr/>
        </p:nvSpPr>
        <p:spPr>
          <a:xfrm>
            <a:off x="1638360" y="1828800"/>
            <a:ext cx="1295280" cy="609480"/>
          </a:xfrm>
          <a:custGeom>
            <a:avLst/>
            <a:gdLst>
              <a:gd name="textAreaLeft" fmla="*/ 64800 w 1295280"/>
              <a:gd name="textAreaRight" fmla="*/ 1237680 w 1295280"/>
              <a:gd name="textAreaTop" fmla="*/ 130320 h 609480"/>
              <a:gd name="textAreaBottom" fmla="*/ 572760 h 609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i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14600" y="2743200"/>
            <a:ext cx="1295280" cy="609480"/>
          </a:xfrm>
          <a:custGeom>
            <a:avLst/>
            <a:gdLst>
              <a:gd name="textAreaLeft" fmla="*/ 64800 w 1295280"/>
              <a:gd name="textAreaRight" fmla="*/ 1237680 w 1295280"/>
              <a:gd name="textAreaTop" fmla="*/ 130320 h 609480"/>
              <a:gd name="textAreaBottom" fmla="*/ 572760 h 609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5" name=""/>
          <p:cNvCxnSpPr>
            <a:stCxn id="563" idx="11"/>
            <a:endCxn id="564" idx="10"/>
          </p:cNvCxnSpPr>
          <p:nvPr/>
        </p:nvCxnSpPr>
        <p:spPr>
          <a:xfrm flipH="1" rot="16200000">
            <a:off x="2094480" y="2628720"/>
            <a:ext cx="610560" cy="2293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566" name=""/>
          <p:cNvSpPr/>
          <p:nvPr/>
        </p:nvSpPr>
        <p:spPr>
          <a:xfrm>
            <a:off x="2514600" y="4648320"/>
            <a:ext cx="1295280" cy="609480"/>
          </a:xfrm>
          <a:custGeom>
            <a:avLst/>
            <a:gdLst>
              <a:gd name="textAreaLeft" fmla="*/ 64800 w 1295280"/>
              <a:gd name="textAreaRight" fmla="*/ 1237680 w 1295280"/>
              <a:gd name="textAreaTop" fmla="*/ 130320 h 609480"/>
              <a:gd name="textAreaBottom" fmla="*/ 572760 h 609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7" name=""/>
          <p:cNvCxnSpPr>
            <a:stCxn id="563" idx="12"/>
            <a:endCxn id="566" idx="10"/>
          </p:cNvCxnSpPr>
          <p:nvPr/>
        </p:nvCxnSpPr>
        <p:spPr>
          <a:xfrm flipH="1" rot="16200000">
            <a:off x="1141920" y="3580920"/>
            <a:ext cx="2515320" cy="22932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568" name=""/>
          <p:cNvSpPr/>
          <p:nvPr/>
        </p:nvSpPr>
        <p:spPr>
          <a:xfrm>
            <a:off x="4343400" y="2327760"/>
            <a:ext cx="4572000" cy="1427400"/>
          </a:xfrm>
          <a:prstGeom prst="roundRect">
            <a:avLst>
              <a:gd name="adj" fmla="val 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gorithms that create a mes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Marching c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y refinement from platonic sh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all Pivo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Subset from another 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sampling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343400" y="4124880"/>
            <a:ext cx="4572000" cy="1649520"/>
          </a:xfrm>
          <a:prstGeom prst="roundRect">
            <a:avLst>
              <a:gd name="adj" fmla="val 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gorithms that updat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FFAdjac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VFAdjac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Bounding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rmals per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ormals per ver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1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…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0" name=""/>
          <p:cNvCxnSpPr>
            <a:stCxn id="564" idx="11"/>
            <a:endCxn id="568" idx="1"/>
          </p:cNvCxnSpPr>
          <p:nvPr/>
        </p:nvCxnSpPr>
        <p:spPr>
          <a:xfrm flipV="1">
            <a:off x="3809880" y="3041280"/>
            <a:ext cx="534240" cy="720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571" name=""/>
          <p:cNvCxnSpPr>
            <a:stCxn id="566" idx="11"/>
            <a:endCxn id="569" idx="1"/>
          </p:cNvCxnSpPr>
          <p:nvPr/>
        </p:nvCxnSpPr>
        <p:spPr>
          <a:xfrm flipV="1">
            <a:off x="3809880" y="4949640"/>
            <a:ext cx="534240" cy="360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971800" y="1805040"/>
            <a:ext cx="4724280" cy="1143000"/>
          </a:xfrm>
          <a:prstGeom prst="roundRect">
            <a:avLst>
              <a:gd name="adj" fmla="val 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08160" y="3162240"/>
            <a:ext cx="4537080" cy="1143000"/>
          </a:xfrm>
          <a:prstGeom prst="roundRect">
            <a:avLst>
              <a:gd name="adj" fmla="val 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08160" y="4484520"/>
            <a:ext cx="453708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08160" y="5702400"/>
            <a:ext cx="4537080" cy="685800"/>
          </a:xfrm>
          <a:prstGeom prst="roundRect">
            <a:avLst>
              <a:gd name="adj" fmla="val 231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VCG Structur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808200"/>
            <a:ext cx="990720" cy="685800"/>
          </a:xfrm>
          <a:custGeom>
            <a:avLst/>
            <a:gdLst>
              <a:gd name="textAreaLeft" fmla="*/ 49680 w 990720"/>
              <a:gd name="textAreaRight" fmla="*/ 946800 w 990720"/>
              <a:gd name="textAreaTop" fmla="*/ 146880 h 685800"/>
              <a:gd name="textAreaBottom" fmla="*/ 644400 h 68580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01840" y="2071800"/>
            <a:ext cx="914400" cy="609480"/>
          </a:xfrm>
          <a:custGeom>
            <a:avLst/>
            <a:gdLst>
              <a:gd name="textAreaLeft" fmla="*/ 45720 w 914400"/>
              <a:gd name="textAreaRight" fmla="*/ 873720 w 914400"/>
              <a:gd name="textAreaTop" fmla="*/ 130320 h 609480"/>
              <a:gd name="textAreaBottom" fmla="*/ 572760 h 609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01840" y="3429000"/>
            <a:ext cx="914400" cy="609480"/>
          </a:xfrm>
          <a:custGeom>
            <a:avLst/>
            <a:gdLst>
              <a:gd name="textAreaLeft" fmla="*/ 45720 w 914400"/>
              <a:gd name="textAreaRight" fmla="*/ 873720 w 914400"/>
              <a:gd name="textAreaTop" fmla="*/ 130320 h 609480"/>
              <a:gd name="textAreaBottom" fmla="*/ 572760 h 609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1840" y="4408560"/>
            <a:ext cx="914400" cy="609480"/>
          </a:xfrm>
          <a:custGeom>
            <a:avLst/>
            <a:gdLst>
              <a:gd name="textAreaLeft" fmla="*/ 45720 w 914400"/>
              <a:gd name="textAreaRight" fmla="*/ 873720 w 914400"/>
              <a:gd name="textAreaTop" fmla="*/ 130320 h 609480"/>
              <a:gd name="textAreaBottom" fmla="*/ 572760 h 609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01840" y="5740560"/>
            <a:ext cx="914400" cy="609480"/>
          </a:xfrm>
          <a:custGeom>
            <a:avLst/>
            <a:gdLst>
              <a:gd name="textAreaLeft" fmla="*/ 45720 w 914400"/>
              <a:gd name="textAreaRight" fmla="*/ 873720 w 914400"/>
              <a:gd name="textAreaTop" fmla="*/ 130320 h 609480"/>
              <a:gd name="textAreaBottom" fmla="*/ 572760 h 609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7" idx="18"/>
            <a:endCxn id="61" idx="9"/>
          </p:cNvCxnSpPr>
          <p:nvPr/>
        </p:nvCxnSpPr>
        <p:spPr>
          <a:xfrm>
            <a:off x="876240" y="1494000"/>
            <a:ext cx="526320" cy="455184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3" name=""/>
          <p:cNvCxnSpPr>
            <a:stCxn id="57" idx="19"/>
            <a:endCxn id="60" idx="10"/>
          </p:cNvCxnSpPr>
          <p:nvPr/>
        </p:nvCxnSpPr>
        <p:spPr>
          <a:xfrm>
            <a:off x="876240" y="1494000"/>
            <a:ext cx="527760" cy="321984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7" idx="20"/>
            <a:endCxn id="59" idx="10"/>
          </p:cNvCxnSpPr>
          <p:nvPr/>
        </p:nvCxnSpPr>
        <p:spPr>
          <a:xfrm>
            <a:off x="876240" y="1494000"/>
            <a:ext cx="526320" cy="224064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7" idx="21"/>
            <a:endCxn id="58" idx="10"/>
          </p:cNvCxnSpPr>
          <p:nvPr/>
        </p:nvCxnSpPr>
        <p:spPr>
          <a:xfrm>
            <a:off x="876240" y="1493640"/>
            <a:ext cx="526320" cy="88308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" name=""/>
          <p:cNvSpPr/>
          <p:nvPr/>
        </p:nvSpPr>
        <p:spPr>
          <a:xfrm>
            <a:off x="3018960" y="4529160"/>
            <a:ext cx="3577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s made with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5724360"/>
            <a:ext cx="51814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tion: styleguide and manual generated by Do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64120" y="1781280"/>
            <a:ext cx="45115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library: definitions and algorith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tandard c++ e STL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rely self-contained. No inclusion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external file or linking of other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0000" y="3138480"/>
            <a:ext cx="37072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ing the library concepts,e.g.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a mesh using opengl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ckball/decorators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importers/exporter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58" idx="11"/>
            <a:endCxn id="52" idx="1"/>
          </p:cNvCxnSpPr>
          <p:nvPr/>
        </p:nvCxnSpPr>
        <p:spPr>
          <a:xfrm>
            <a:off x="2315880" y="2376000"/>
            <a:ext cx="6562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9" idx="11"/>
            <a:endCxn id="53" idx="1"/>
          </p:cNvCxnSpPr>
          <p:nvPr/>
        </p:nvCxnSpPr>
        <p:spPr>
          <a:xfrm>
            <a:off x="2316240" y="3733920"/>
            <a:ext cx="692640" cy="216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2" name=""/>
          <p:cNvCxnSpPr>
            <a:stCxn id="60" idx="11"/>
            <a:endCxn id="54" idx="1"/>
          </p:cNvCxnSpPr>
          <p:nvPr/>
        </p:nvCxnSpPr>
        <p:spPr>
          <a:xfrm>
            <a:off x="2316240" y="4712760"/>
            <a:ext cx="6926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1" idx="10"/>
            <a:endCxn id="55" idx="1"/>
          </p:cNvCxnSpPr>
          <p:nvPr/>
        </p:nvCxnSpPr>
        <p:spPr>
          <a:xfrm>
            <a:off x="2316240" y="6044760"/>
            <a:ext cx="692640" cy="2520"/>
          </a:xfrm>
          <a:prstGeom prst="bentConnector3">
            <a:avLst>
              <a:gd name="adj1" fmla="val 49973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Wrap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33520" y="808200"/>
            <a:ext cx="990360" cy="685800"/>
          </a:xfrm>
          <a:custGeom>
            <a:avLst/>
            <a:gdLst>
              <a:gd name="textAreaLeft" fmla="*/ 49680 w 990360"/>
              <a:gd name="textAreaRight" fmla="*/ 946440 w 990360"/>
              <a:gd name="textAreaTop" fmla="*/ 146880 h 685800"/>
              <a:gd name="textAreaBottom" fmla="*/ 644400 h 68580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401840" y="2071800"/>
            <a:ext cx="914400" cy="609480"/>
          </a:xfrm>
          <a:custGeom>
            <a:avLst/>
            <a:gdLst>
              <a:gd name="textAreaLeft" fmla="*/ 45720 w 914400"/>
              <a:gd name="textAreaRight" fmla="*/ 873720 w 914400"/>
              <a:gd name="textAreaTop" fmla="*/ 130320 h 609480"/>
              <a:gd name="textAreaBottom" fmla="*/ 572760 h 609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05080" y="3200400"/>
            <a:ext cx="914400" cy="609480"/>
          </a:xfrm>
          <a:custGeom>
            <a:avLst/>
            <a:gdLst>
              <a:gd name="textAreaLeft" fmla="*/ 45720 w 914400"/>
              <a:gd name="textAreaRight" fmla="*/ 873720 w 914400"/>
              <a:gd name="textAreaTop" fmla="*/ 130320 h 609480"/>
              <a:gd name="textAreaBottom" fmla="*/ 572760 h 609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401840" y="4408560"/>
            <a:ext cx="1493640" cy="609480"/>
          </a:xfrm>
          <a:custGeom>
            <a:avLst/>
            <a:gdLst>
              <a:gd name="textAreaLeft" fmla="*/ 74880 w 1493640"/>
              <a:gd name="textAreaRight" fmla="*/ 1427040 w 1493640"/>
              <a:gd name="textAreaTop" fmla="*/ 130320 h 609480"/>
              <a:gd name="textAreaBottom" fmla="*/ 572760 h 609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o_tri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01840" y="5740560"/>
            <a:ext cx="914400" cy="609480"/>
          </a:xfrm>
          <a:custGeom>
            <a:avLst/>
            <a:gdLst>
              <a:gd name="textAreaLeft" fmla="*/ 45720 w 914400"/>
              <a:gd name="textAreaRight" fmla="*/ 873720 w 914400"/>
              <a:gd name="textAreaTop" fmla="*/ 130320 h 609480"/>
              <a:gd name="textAreaBottom" fmla="*/ 572760 h 609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8" name=""/>
          <p:cNvCxnSpPr>
            <a:stCxn id="573" idx="18"/>
            <a:endCxn id="577" idx="9"/>
          </p:cNvCxnSpPr>
          <p:nvPr/>
        </p:nvCxnSpPr>
        <p:spPr>
          <a:xfrm flipH="1" rot="16200000">
            <a:off x="-1060200" y="3582720"/>
            <a:ext cx="4551840" cy="37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9" name=""/>
          <p:cNvCxnSpPr>
            <a:stCxn id="573" idx="19"/>
            <a:endCxn id="576" idx="10"/>
          </p:cNvCxnSpPr>
          <p:nvPr/>
        </p:nvCxnSpPr>
        <p:spPr>
          <a:xfrm flipH="1" rot="16200000">
            <a:off x="-394200" y="2916720"/>
            <a:ext cx="3219840" cy="37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73" idx="20"/>
            <a:endCxn id="575" idx="10"/>
          </p:cNvCxnSpPr>
          <p:nvPr/>
        </p:nvCxnSpPr>
        <p:spPr>
          <a:xfrm flipH="1" rot="16200000">
            <a:off x="210240" y="2311200"/>
            <a:ext cx="2012040" cy="376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73" idx="21"/>
            <a:endCxn id="574" idx="10"/>
          </p:cNvCxnSpPr>
          <p:nvPr/>
        </p:nvCxnSpPr>
        <p:spPr>
          <a:xfrm flipH="1" rot="16200000">
            <a:off x="774000" y="1748160"/>
            <a:ext cx="883080" cy="37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2" name=""/>
          <p:cNvSpPr/>
          <p:nvPr/>
        </p:nvSpPr>
        <p:spPr>
          <a:xfrm>
            <a:off x="0" y="0"/>
            <a:ext cx="990720" cy="685800"/>
          </a:xfrm>
          <a:custGeom>
            <a:avLst/>
            <a:gdLst>
              <a:gd name="textAreaLeft" fmla="*/ 49680 w 990720"/>
              <a:gd name="textAreaRight" fmla="*/ 946800 w 990720"/>
              <a:gd name="textAreaTop" fmla="*/ 146880 h 685800"/>
              <a:gd name="textAreaBottom" fmla="*/ 644400 h 68580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3" name=""/>
          <p:cNvCxnSpPr>
            <a:stCxn id="582" idx="18"/>
            <a:endCxn id="573" idx="22"/>
          </p:cNvCxnSpPr>
          <p:nvPr/>
        </p:nvCxnSpPr>
        <p:spPr>
          <a:xfrm flipH="1" rot="16200000">
            <a:off x="281880" y="898920"/>
            <a:ext cx="465840" cy="38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4" name=""/>
          <p:cNvSpPr/>
          <p:nvPr/>
        </p:nvSpPr>
        <p:spPr>
          <a:xfrm>
            <a:off x="4344840" y="2899440"/>
            <a:ext cx="4569120" cy="3632400"/>
          </a:xfrm>
          <a:prstGeom prst="roundRect">
            <a:avLst>
              <a:gd name="adj" fmla="val 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1000"/>
              </a:lnSpc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ort from (export to) fome forma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xport(import)_3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xport(import)_d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xport(import)_dx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xport(import)_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xport(import)_ob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xport(import)_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xport(import)_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xport(import)_sm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xport(import)_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xport(import)_vr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xport(import)_r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"/>
          <p:cNvCxnSpPr>
            <a:stCxn id="576" idx="11"/>
            <a:endCxn id="584" idx="1"/>
          </p:cNvCxnSpPr>
          <p:nvPr/>
        </p:nvCxnSpPr>
        <p:spPr>
          <a:xfrm>
            <a:off x="2895480" y="4712760"/>
            <a:ext cx="1450080" cy="39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4343400" y="2201400"/>
            <a:ext cx="4568760" cy="340920"/>
          </a:xfrm>
          <a:prstGeom prst="roundRect">
            <a:avLst>
              <a:gd name="adj" fmla="val 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1000"/>
              </a:lnSpc>
              <a:spcAft>
                <a:spcPts val="24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nder vcg objects with OpenG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7" name=""/>
          <p:cNvCxnSpPr>
            <a:stCxn id="574" idx="11"/>
            <a:endCxn id="586" idx="1"/>
          </p:cNvCxnSpPr>
          <p:nvPr/>
        </p:nvCxnSpPr>
        <p:spPr>
          <a:xfrm flipV="1">
            <a:off x="2315880" y="2370960"/>
            <a:ext cx="2027520" cy="5400"/>
          </a:xfrm>
          <a:prstGeom prst="bentConnector3">
            <a:avLst>
              <a:gd name="adj1" fmla="val 499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Comparison to OpenMesh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1523880" y="2104920"/>
          <a:ext cx="6096240" cy="4467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Me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stru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f ed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exed with adjacen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mory (bytes per vertex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face-vert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 face-face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 vert-fa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for polygonal mes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neral for simplicial complex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ss to i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ndle(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n manifold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ly at verti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e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Comparison to OpenMesh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62120" y="2743200"/>
            <a:ext cx="780408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60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est: iterate over all the faces of a triangle mesh. For each face read position and norm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1447920" y="4724280"/>
          <a:ext cx="5943600" cy="1352520"/>
        </p:xfrm>
        <a:graphic>
          <a:graphicData uri="http://schemas.openxmlformats.org/drawingml/2006/table">
            <a:tbl>
              <a:tblPr/>
              <a:tblGrid>
                <a:gridCol w="2641320"/>
                <a:gridCol w="1651320"/>
                <a:gridCol w="1650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 / t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Me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19  48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61 499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3652 10877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3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3" name=""/>
          <p:cNvSpPr/>
          <p:nvPr/>
        </p:nvSpPr>
        <p:spPr>
          <a:xfrm>
            <a:off x="1433880" y="4270320"/>
            <a:ext cx="2783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me do to 1000 test (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1841760" cy="182880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2209680" cy="21956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5038560" y="1143000"/>
            <a:ext cx="1819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1841760" cy="182880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2"/>
          <a:stretch/>
        </p:blipFill>
        <p:spPr>
          <a:xfrm>
            <a:off x="5038560" y="1143000"/>
            <a:ext cx="1819440" cy="167652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Comparison to OpenMesh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447920" y="4724280"/>
          <a:ext cx="5943600" cy="1352520"/>
        </p:xfrm>
        <a:graphic>
          <a:graphicData uri="http://schemas.openxmlformats.org/drawingml/2006/table">
            <a:tbl>
              <a:tblPr/>
              <a:tblGrid>
                <a:gridCol w="2641320"/>
                <a:gridCol w="1651320"/>
                <a:gridCol w="1650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 / t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Me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19  48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61 499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3652 10877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4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762120" y="2743200"/>
            <a:ext cx="7804080" cy="13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60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est: iterate over all the vertices  of a triangle mesh. For each vertex read position and norm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433880" y="4270320"/>
            <a:ext cx="278388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me do to 1000 test (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3200400" y="1066680"/>
            <a:ext cx="220968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1841760" cy="182880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2209680" cy="21956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3"/>
          <a:stretch/>
        </p:blipFill>
        <p:spPr>
          <a:xfrm>
            <a:off x="5038560" y="1143000"/>
            <a:ext cx="1819440" cy="167652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9390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81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Comparison to OpenMesh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1447920" y="4724280"/>
          <a:ext cx="5943600" cy="1352520"/>
        </p:xfrm>
        <a:graphic>
          <a:graphicData uri="http://schemas.openxmlformats.org/drawingml/2006/table">
            <a:tbl>
              <a:tblPr/>
              <a:tblGrid>
                <a:gridCol w="2641320"/>
                <a:gridCol w="1651320"/>
                <a:gridCol w="1650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 / t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Me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19  48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61 499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3652 10877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762120" y="2362320"/>
            <a:ext cx="7804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60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est: iterate over all the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ver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s of a triangle mesh. For each vertex  read position and normal of all the vertices in the r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33520" y="4270320"/>
            <a:ext cx="26571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me do to 100 test (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5038560" y="1143000"/>
            <a:ext cx="1819440" cy="167652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3200400" y="1066680"/>
            <a:ext cx="2209680" cy="21956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3"/>
          <a:stretch/>
        </p:blipFill>
        <p:spPr>
          <a:xfrm>
            <a:off x="1295280" y="1143000"/>
            <a:ext cx="1841760" cy="182880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93908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 algn="ctr">
              <a:lnSpc>
                <a:spcPct val="81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Comparison to OpenMesh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447920" y="4724280"/>
          <a:ext cx="5943600" cy="1352520"/>
        </p:xfrm>
        <a:graphic>
          <a:graphicData uri="http://schemas.openxmlformats.org/drawingml/2006/table">
            <a:tbl>
              <a:tblPr/>
              <a:tblGrid>
                <a:gridCol w="2641320"/>
                <a:gridCol w="1651320"/>
                <a:gridCol w="1650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 / t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Me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19  48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61 499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3652 10877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7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8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6" name=""/>
          <p:cNvSpPr/>
          <p:nvPr/>
        </p:nvSpPr>
        <p:spPr>
          <a:xfrm>
            <a:off x="762120" y="2133720"/>
            <a:ext cx="7804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60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est: iterate over all the vertices of a triangle mesh. For each vertex find all the faces connected to it. For each face read position and normal of its 3 vert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33520" y="4270320"/>
            <a:ext cx="2657160" cy="3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ime do to 100 test (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71040" y="452160"/>
            <a:ext cx="780444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333333"/>
                </a:solidFill>
                <a:latin typeface="Arial"/>
              </a:rPr>
              <a:t>Comparison to OpenMesh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71040" y="1906560"/>
            <a:ext cx="7804440" cy="21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60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cimation by edge collapse with quadric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838080" y="4114800"/>
          <a:ext cx="7594560" cy="1352520"/>
        </p:xfrm>
        <a:graphic>
          <a:graphicData uri="http://schemas.openxmlformats.org/drawingml/2006/table">
            <a:tbl>
              <a:tblPr/>
              <a:tblGrid>
                <a:gridCol w="2286000"/>
                <a:gridCol w="2210040"/>
                <a:gridCol w="1447560"/>
                <a:gridCol w="16509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 / t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duce to #  f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Me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19  48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861 499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3652 10877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4760" indent="-10476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spcAft>
                          <a:spcPts val="374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m13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693960" y="6267600"/>
            <a:ext cx="4992840" cy="422280"/>
          </a:xfrm>
          <a:prstGeom prst="roundRect">
            <a:avLst>
              <a:gd name="adj" fmla="val 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93960" y="5100480"/>
            <a:ext cx="4992840" cy="852480"/>
          </a:xfrm>
          <a:prstGeom prst="roundRect">
            <a:avLst>
              <a:gd name="adj" fmla="val 18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93960" y="4027320"/>
            <a:ext cx="4992840" cy="774720"/>
          </a:xfrm>
          <a:prstGeom prst="roundRect">
            <a:avLst>
              <a:gd name="adj" fmla="val 20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684600" y="2370240"/>
            <a:ext cx="5230800" cy="1600200"/>
          </a:xfrm>
          <a:prstGeom prst="roundRect">
            <a:avLst>
              <a:gd name="adj" fmla="val 9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93960" y="1828800"/>
            <a:ext cx="3622680" cy="457200"/>
          </a:xfrm>
          <a:prstGeom prst="roundRect">
            <a:avLst>
              <a:gd name="adj" fmla="val 34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VCG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09480"/>
            <a:ext cx="1219320" cy="838440"/>
          </a:xfrm>
          <a:custGeom>
            <a:avLst/>
            <a:gdLst>
              <a:gd name="textAreaLeft" fmla="*/ 61200 w 1219320"/>
              <a:gd name="textAreaRight" fmla="*/ 1164960 w 1219320"/>
              <a:gd name="textAreaTop" fmla="*/ 179640 h 838440"/>
              <a:gd name="textAreaBottom" fmla="*/ 787680 h 8384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1752480"/>
            <a:ext cx="1295280" cy="609840"/>
          </a:xfrm>
          <a:custGeom>
            <a:avLst/>
            <a:gdLst>
              <a:gd name="textAreaLeft" fmla="*/ 64800 w 1295280"/>
              <a:gd name="textAreaRight" fmla="*/ 1237680 w 1295280"/>
              <a:gd name="textAreaTop" fmla="*/ 130680 h 609840"/>
              <a:gd name="textAreaBottom" fmla="*/ 573120 h 60984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2865600"/>
            <a:ext cx="1338120" cy="609480"/>
          </a:xfrm>
          <a:custGeom>
            <a:avLst/>
            <a:gdLst>
              <a:gd name="textAreaLeft" fmla="*/ 66960 w 1338120"/>
              <a:gd name="textAreaRight" fmla="*/ 1278360 w 1338120"/>
              <a:gd name="textAreaTop" fmla="*/ 130320 h 609480"/>
              <a:gd name="textAreaBottom" fmla="*/ 572760 h 609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110120"/>
            <a:ext cx="1295280" cy="609480"/>
          </a:xfrm>
          <a:custGeom>
            <a:avLst/>
            <a:gdLst>
              <a:gd name="textAreaLeft" fmla="*/ 64800 w 1295280"/>
              <a:gd name="textAreaRight" fmla="*/ 1237680 w 1295280"/>
              <a:gd name="textAreaTop" fmla="*/ 130320 h 609480"/>
              <a:gd name="textAreaBottom" fmla="*/ 572760 h 609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28800" y="5222880"/>
            <a:ext cx="1295280" cy="609480"/>
          </a:xfrm>
          <a:custGeom>
            <a:avLst/>
            <a:gdLst>
              <a:gd name="textAreaLeft" fmla="*/ 64800 w 1295280"/>
              <a:gd name="textAreaRight" fmla="*/ 1237680 w 1295280"/>
              <a:gd name="textAreaTop" fmla="*/ 130320 h 609480"/>
              <a:gd name="textAreaBottom" fmla="*/ 572760 h 609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80" idx="21"/>
            <a:endCxn id="82" idx="10"/>
          </p:cNvCxnSpPr>
          <p:nvPr/>
        </p:nvCxnSpPr>
        <p:spPr>
          <a:xfrm>
            <a:off x="1295280" y="1447920"/>
            <a:ext cx="534240" cy="172296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80" idx="22"/>
            <a:endCxn id="84" idx="10"/>
          </p:cNvCxnSpPr>
          <p:nvPr/>
        </p:nvCxnSpPr>
        <p:spPr>
          <a:xfrm>
            <a:off x="1295280" y="1447560"/>
            <a:ext cx="534240" cy="408060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80" idx="23"/>
            <a:endCxn id="83" idx="10"/>
          </p:cNvCxnSpPr>
          <p:nvPr/>
        </p:nvCxnSpPr>
        <p:spPr>
          <a:xfrm>
            <a:off x="1295280" y="1447560"/>
            <a:ext cx="534240" cy="2967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1828800" y="6172200"/>
            <a:ext cx="1295280" cy="609480"/>
          </a:xfrm>
          <a:custGeom>
            <a:avLst/>
            <a:gdLst>
              <a:gd name="textAreaLeft" fmla="*/ 64800 w 1295280"/>
              <a:gd name="textAreaRight" fmla="*/ 1237680 w 1295280"/>
              <a:gd name="textAreaTop" fmla="*/ 130320 h 609480"/>
              <a:gd name="textAreaBottom" fmla="*/ 572760 h 60948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0" idx="24"/>
            <a:endCxn id="81" idx="10"/>
          </p:cNvCxnSpPr>
          <p:nvPr/>
        </p:nvCxnSpPr>
        <p:spPr>
          <a:xfrm>
            <a:off x="1295280" y="1447560"/>
            <a:ext cx="534240" cy="61020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80" idx="25"/>
            <a:endCxn id="88" idx="10"/>
          </p:cNvCxnSpPr>
          <p:nvPr/>
        </p:nvCxnSpPr>
        <p:spPr>
          <a:xfrm>
            <a:off x="1295280" y="1447920"/>
            <a:ext cx="534240" cy="50299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3915360" y="2436840"/>
            <a:ext cx="5113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finition of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ors to walk on the me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perators (edge split, edge collapse etc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s (simplification, smooth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h generation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73680" y="5025960"/>
            <a:ext cx="42634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geometric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section between geometric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patial indexing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40560" y="6292800"/>
            <a:ext cx="2219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linear alg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84040" y="1914480"/>
            <a:ext cx="3414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of simplex (order 0.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27880" y="4092480"/>
            <a:ext cx="40471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ization of STL vector used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e optional attributes of simpl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83" idx="11"/>
            <a:endCxn id="76" idx="1"/>
          </p:cNvCxnSpPr>
          <p:nvPr/>
        </p:nvCxnSpPr>
        <p:spPr>
          <a:xfrm>
            <a:off x="3123720" y="4414320"/>
            <a:ext cx="57060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7" name=""/>
          <p:cNvCxnSpPr>
            <a:stCxn id="82" idx="11"/>
            <a:endCxn id="77" idx="1"/>
          </p:cNvCxnSpPr>
          <p:nvPr/>
        </p:nvCxnSpPr>
        <p:spPr>
          <a:xfrm>
            <a:off x="3166920" y="3169800"/>
            <a:ext cx="51840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8" name=""/>
          <p:cNvCxnSpPr>
            <a:stCxn id="81" idx="11"/>
            <a:endCxn id="78" idx="1"/>
          </p:cNvCxnSpPr>
          <p:nvPr/>
        </p:nvCxnSpPr>
        <p:spPr>
          <a:xfrm>
            <a:off x="3123720" y="2057400"/>
            <a:ext cx="5706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99" name=""/>
          <p:cNvCxnSpPr>
            <a:stCxn id="84" idx="11"/>
            <a:endCxn id="75" idx="1"/>
          </p:cNvCxnSpPr>
          <p:nvPr/>
        </p:nvCxnSpPr>
        <p:spPr>
          <a:xfrm flipV="1">
            <a:off x="3123720" y="5525280"/>
            <a:ext cx="57060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00" name=""/>
          <p:cNvCxnSpPr>
            <a:stCxn id="88" idx="11"/>
            <a:endCxn id="74" idx="1"/>
          </p:cNvCxnSpPr>
          <p:nvPr/>
        </p:nvCxnSpPr>
        <p:spPr>
          <a:xfrm>
            <a:off x="3123720" y="6477120"/>
            <a:ext cx="5706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040" y="452520"/>
            <a:ext cx="78058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Outline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040" y="1371600"/>
            <a:ext cx="78058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355680" indent="-268920">
              <a:lnSpc>
                <a:spcPct val="81000"/>
              </a:lnSpc>
              <a:spcAft>
                <a:spcPts val="524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of VC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237240">
              <a:lnSpc>
                <a:spcPct val="83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tion of simplex and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237240">
              <a:lnSpc>
                <a:spcPct val="83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237240">
              <a:lnSpc>
                <a:spcPct val="83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fing the m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237240">
              <a:lnSpc>
                <a:spcPct val="83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fol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68920">
              <a:lnSpc>
                <a:spcPct val="81000"/>
              </a:lnSpc>
              <a:spcBef>
                <a:spcPts val="1012"/>
              </a:spcBef>
              <a:spcAft>
                <a:spcPts val="524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sic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237240">
              <a:lnSpc>
                <a:spcPct val="83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algorithms: bounding box, smoothing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237240">
              <a:lnSpc>
                <a:spcPct val="83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algorithms: refine, plat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68920">
              <a:lnSpc>
                <a:spcPct val="81000"/>
              </a:lnSpc>
              <a:spcBef>
                <a:spcPts val="1012"/>
              </a:spcBef>
              <a:spcAft>
                <a:spcPts val="524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237240">
              <a:lnSpc>
                <a:spcPct val="83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o, Tridecimator, Mesh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-268920">
              <a:lnSpc>
                <a:spcPct val="81000"/>
              </a:lnSpc>
              <a:spcBef>
                <a:spcPts val="1012"/>
              </a:spcBef>
              <a:spcAft>
                <a:spcPts val="524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son with other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880" indent="-237240">
              <a:lnSpc>
                <a:spcPct val="83000"/>
              </a:lnSpc>
              <a:spcBef>
                <a:spcPts val="286"/>
              </a:spcBef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Me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Simplex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24440" indent="-320760">
              <a:lnSpc>
                <a:spcPct val="93000"/>
              </a:lnSpc>
              <a:spcBef>
                <a:spcPts val="700"/>
              </a:spcBef>
              <a:spcAft>
                <a:spcPts val="45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CG simplic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ertex,Edge,Face,Tetrahed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Bef>
                <a:spcPts val="700"/>
              </a:spcBef>
              <a:spcAft>
                <a:spcPts val="524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implex can have attributes other then its geometrical pos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, color,quality, connectivity information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Bef>
                <a:spcPts val="700"/>
              </a:spcBef>
              <a:spcAft>
                <a:spcPts val="524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y wa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87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ave a vertex with  any combination of these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87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hoose a set of attributes dynam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87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reate user-defined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xample: Vertex 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3000"/>
              </a:lnSpc>
              <a:spcBef>
                <a:spcPts val="451"/>
              </a:spcBef>
              <a:spcAft>
                <a:spcPts val="337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desired attributes are passed as template class to the verte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Bef>
                <a:spcPts val="451"/>
              </a:spcBef>
              <a:spcAft>
                <a:spcPts val="337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mplate parameters can be passed in any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Bef>
                <a:spcPts val="451"/>
              </a:spcBef>
              <a:spcAft>
                <a:spcPts val="337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? Template list are unrolled in a chain of deriv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Bef>
                <a:spcPts val="451"/>
              </a:spcBef>
              <a:spcAft>
                <a:spcPts val="33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81360" y="2057400"/>
            <a:ext cx="32896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typedef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rtexSimp1&l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rtex0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dgeProto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cg::vert::VFAdj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cg::vert::Normal3f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cg::vert::Color4b&gt; MyVertex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51400" y="6135840"/>
            <a:ext cx="100512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yVer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75200" y="5678640"/>
            <a:ext cx="175752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cg::vert: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FAd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49920" y="5221440"/>
            <a:ext cx="200808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cg::vert: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ormal3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49920" y="4764240"/>
            <a:ext cx="200808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cg::vert::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lor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4160" y="6593040"/>
            <a:ext cx="228924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cg::vert::Empty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4160" y="6135840"/>
            <a:ext cx="228924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cg::vert::EmptyN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054160" y="4764240"/>
            <a:ext cx="228924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cg::vert::EmptyVFAd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4160" y="5221440"/>
            <a:ext cx="228924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cg::vert::EmptyFla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54160" y="5678640"/>
            <a:ext cx="228924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cg::vert::Empty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054160" y="4307040"/>
            <a:ext cx="2289240" cy="228600"/>
          </a:xfrm>
          <a:prstGeom prst="roundRect">
            <a:avLst>
              <a:gd name="adj" fmla="val 69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7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cg::vert::EmptyInf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-228600" y="525780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4" idx="0"/>
            <a:endCxn id="117" idx="2"/>
          </p:cNvCxnSpPr>
          <p:nvPr/>
        </p:nvCxnSpPr>
        <p:spPr>
          <a:xfrm flipV="1">
            <a:off x="3198960" y="4534920"/>
            <a:ext cx="2160" cy="2293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0" name=""/>
          <p:cNvCxnSpPr>
            <a:stCxn id="115" idx="0"/>
            <a:endCxn id="114" idx="2"/>
          </p:cNvCxnSpPr>
          <p:nvPr/>
        </p:nvCxnSpPr>
        <p:spPr>
          <a:xfrm flipV="1">
            <a:off x="3198960" y="4992120"/>
            <a:ext cx="2160" cy="2293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1" name=""/>
          <p:cNvCxnSpPr>
            <a:stCxn id="113" idx="0"/>
            <a:endCxn id="116" idx="2"/>
          </p:cNvCxnSpPr>
          <p:nvPr/>
        </p:nvCxnSpPr>
        <p:spPr>
          <a:xfrm flipV="1">
            <a:off x="3198960" y="5906520"/>
            <a:ext cx="2160" cy="2293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897280" y="5126040"/>
            <a:ext cx="62388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2" idx="0"/>
            <a:endCxn id="113" idx="2"/>
          </p:cNvCxnSpPr>
          <p:nvPr/>
        </p:nvCxnSpPr>
        <p:spPr>
          <a:xfrm flipV="1">
            <a:off x="3198960" y="6363720"/>
            <a:ext cx="2160" cy="2293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4" name=""/>
          <p:cNvCxnSpPr>
            <a:stCxn id="108" idx="0"/>
            <a:endCxn id="109" idx="2"/>
          </p:cNvCxnSpPr>
          <p:nvPr/>
        </p:nvCxnSpPr>
        <p:spPr>
          <a:xfrm flipV="1">
            <a:off x="5854680" y="5906520"/>
            <a:ext cx="2160" cy="2293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5" name=""/>
          <p:cNvCxnSpPr>
            <a:stCxn id="109" idx="0"/>
            <a:endCxn id="110" idx="2"/>
          </p:cNvCxnSpPr>
          <p:nvPr/>
        </p:nvCxnSpPr>
        <p:spPr>
          <a:xfrm flipV="1">
            <a:off x="5853240" y="5449320"/>
            <a:ext cx="2160" cy="2293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26" name=""/>
          <p:cNvCxnSpPr>
            <a:stCxn id="110" idx="0"/>
            <a:endCxn id="111" idx="2"/>
          </p:cNvCxnSpPr>
          <p:nvPr/>
        </p:nvCxnSpPr>
        <p:spPr>
          <a:xfrm flipV="1">
            <a:off x="5854680" y="4992120"/>
            <a:ext cx="2160" cy="2293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7" name=""/>
          <p:cNvCxnSpPr>
            <a:stCxn id="109" idx="0"/>
            <a:endCxn id="110" idx="2"/>
          </p:cNvCxnSpPr>
          <p:nvPr/>
        </p:nvCxnSpPr>
        <p:spPr>
          <a:xfrm flipV="1">
            <a:off x="5853240" y="5449320"/>
            <a:ext cx="2160" cy="229320"/>
          </a:xfrm>
          <a:prstGeom prst="bentConnector3">
            <a:avLst>
              <a:gd name="adj1" fmla="val 40000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128" name=""/>
          <p:cNvCxnSpPr>
            <a:stCxn id="111" idx="0"/>
            <a:endCxn id="112" idx="3"/>
          </p:cNvCxnSpPr>
          <p:nvPr/>
        </p:nvCxnSpPr>
        <p:spPr>
          <a:xfrm flipV="1" rot="10800000">
            <a:off x="4342680" y="4763880"/>
            <a:ext cx="1510560" cy="194364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Example: Normal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75000"/>
              </a:lnSpc>
              <a:spcBef>
                <a:spcPts val="349"/>
              </a:spcBef>
              <a:spcAft>
                <a:spcPts val="374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cha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rived by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mpty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75000"/>
              </a:lnSpc>
              <a:spcBef>
                <a:spcPts val="349"/>
              </a:spcBef>
              <a:spcAft>
                <a:spcPts val="451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er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overrid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75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templa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&lt;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&gt;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EmptyNormal: public T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typedef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vcg::Point3s NormalTyp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ormalType &amp;N() {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stat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NormalType dummy_normal(0, 0, 0);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retur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dummy_normal;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stat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boo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HasNormal()   {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retur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false;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templa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&lt;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A,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&gt;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Normal: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typedef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A NormalTyp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ormalType &amp;N() {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retur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_norm;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stat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retur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HasNormal()   {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retur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rue; 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ormalType _norm;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templa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&lt;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&gt;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Normal3s: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Normal&lt;vcg::Point3s, T&gt; {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templa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&lt;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&gt;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Normal3f: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Normal&lt;vcg::Point3f, T&gt; {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templa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&lt;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&gt;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Normal3d: </a:t>
            </a:r>
            <a:r>
              <a:rPr b="0" lang="en-US" sz="12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Normal&lt;vcg::Point3d, T&gt; {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61000"/>
              </a:lnSpc>
              <a:spcBef>
                <a:spcPts val="300"/>
              </a:spcBef>
              <a:spcAft>
                <a:spcPts val="312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31640" indent="0" algn="ctr">
              <a:lnSpc>
                <a:spcPct val="93000"/>
              </a:lnSpc>
              <a:buNone/>
              <a:tabLst>
                <a:tab algn="l" pos="0"/>
                <a:tab algn="l" pos="431640"/>
                <a:tab algn="l" pos="888840"/>
                <a:tab algn="l" pos="1346040"/>
                <a:tab algn="l" pos="1803240"/>
                <a:tab algn="l" pos="2260440"/>
                <a:tab algn="l" pos="2717640"/>
                <a:tab algn="l" pos="3174840"/>
                <a:tab algn="l" pos="3632040"/>
                <a:tab algn="l" pos="4089240"/>
                <a:tab algn="l" pos="4546440"/>
                <a:tab algn="l" pos="5003640"/>
                <a:tab algn="l" pos="5460840"/>
                <a:tab algn="l" pos="5918040"/>
                <a:tab algn="l" pos="6375240"/>
                <a:tab algn="l" pos="6832440"/>
                <a:tab algn="l" pos="7289640"/>
                <a:tab algn="l" pos="7746840"/>
                <a:tab algn="l" pos="8204040"/>
                <a:tab algn="l" pos="8661240"/>
                <a:tab algn="l" pos="9118440"/>
                <a:tab algn="l" pos="957564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omplex (ex: TriMesh)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02840" indent="-304560">
              <a:lnSpc>
                <a:spcPct val="84000"/>
              </a:lnSpc>
              <a:spcBef>
                <a:spcPts val="700"/>
              </a:spcBef>
              <a:spcAft>
                <a:spcPts val="524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lex is a collection of simpl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840" indent="0">
              <a:lnSpc>
                <a:spcPct val="84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840" indent="0">
              <a:lnSpc>
                <a:spcPct val="84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840" indent="0">
              <a:lnSpc>
                <a:spcPct val="84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840" indent="0">
              <a:lnSpc>
                <a:spcPct val="84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840" indent="0">
              <a:lnSpc>
                <a:spcPct val="84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840" indent="0">
              <a:lnSpc>
                <a:spcPct val="84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840" indent="0">
              <a:lnSpc>
                <a:spcPct val="84000"/>
              </a:lnSpc>
              <a:spcBef>
                <a:spcPts val="700"/>
              </a:spcBef>
              <a:spcAft>
                <a:spcPts val="524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840" indent="-304560">
              <a:lnSpc>
                <a:spcPct val="84000"/>
              </a:lnSpc>
              <a:spcBef>
                <a:spcPts val="700"/>
              </a:spcBef>
              <a:spcAft>
                <a:spcPts val="524"/>
              </a:spcAft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max and min order simplices are  kept explici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27280" y="2209680"/>
            <a:ext cx="6393960" cy="27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templ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&lt;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VertContainerType,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aceContainerType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clas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TriMesh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ubli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/// Set of vertice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ertContain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ver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/// Actual number of ver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v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/// Set of 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eContain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ac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00"/>
                </a:solidFill>
                <a:latin typeface="Courier New"/>
              </a:rPr>
              <a:t>/// Actual number of 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fn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bio  Ganovelli</cp:lastModifiedBy>
  <dcterms:modified xsi:type="dcterms:W3CDTF">2006-12-17T10:38:39Z</dcterms:modified>
  <cp:revision>29</cp:revision>
  <dc:subject/>
  <dc:title>Visualization and Computer Graphics Library</dc:title>
</cp:coreProperties>
</file>